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.wmf" ContentType="image/x-wmf"/>
  <Override PartName="/ppt/media/image28.png" ContentType="image/png"/>
  <Override PartName="/ppt/media/image2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14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32.png" ContentType="image/png"/>
  <Override PartName="/ppt/media/image40.wmf" ContentType="image/x-wmf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png" ContentType="image/png"/>
  <Override PartName="/ppt/media/image47.png" ContentType="image/png"/>
  <Override PartName="/ppt/media/image35.png" ContentType="image/png"/>
  <Override PartName="/ppt/media/image46.wmf" ContentType="image/x-wmf"/>
  <Override PartName="/ppt/media/image53.wmf" ContentType="image/x-wmf"/>
  <Override PartName="/ppt/media/image41.wmf" ContentType="image/x-wmf"/>
  <Override PartName="/ppt/media/image8.png" ContentType="image/png"/>
  <Override PartName="/ppt/media/image54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52.wmf" ContentType="image/x-wmf"/>
  <Override PartName="/ppt/media/image12.png" ContentType="image/png"/>
  <Override PartName="/ppt/media/image49.png" ContentType="image/png"/>
  <Override PartName="/ppt/media/image51.wmf" ContentType="image/x-wmf"/>
  <Override PartName="/ppt/media/image48.png" ContentType="image/png"/>
  <Override PartName="/ppt/media/image11.png" ContentType="image/png"/>
  <Override PartName="/ppt/media/image31.png" ContentType="image/png"/>
  <Override PartName="/ppt/media/image29.wmf" ContentType="image/x-wmf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F0E-3F79-4FF7-A80A-50526EBC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4FD-F60F-4A40-8AD6-A07AEF65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5AA-C381-4BE5-97B3-1DDD23A2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6E1-A6D6-4439-9DC1-C3F0DFBE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7B6-E6AF-4375-90E2-2E7868A0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9C3-45ED-4F4F-8130-71719EAD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CAA-7BA2-405D-ACBC-EA259E70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28A-7C19-48F5-B831-F27E1DAF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32D-3017-43A8-A996-607D9C07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E91-B0CE-479E-89EB-72726567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EAB-102A-4F57-972D-98804FA0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B8F-718C-451D-873A-1C33E5BB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2D97-921F-4354-8706-7280E4A32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image" Target="../media/image3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9320" y="19080"/>
            <a:ext cx="3990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INGLE NODE-PAI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" y="47304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SE CIRCUITS ARE CHARACTERIZED BY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ELMENTS HAVING THE SAME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CROSS THEM - THEY ARE IN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38080" y="1409760"/>
          <a:ext cx="27306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2730600" cy="13730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28600" y="3746520"/>
          <a:ext cx="4016520" cy="24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46520"/>
                    <a:ext cx="4016520" cy="2449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7" name=""/>
          <p:cNvGrpSpPr/>
          <p:nvPr/>
        </p:nvGrpSpPr>
        <p:grpSpPr>
          <a:xfrm>
            <a:off x="2160" y="5638680"/>
            <a:ext cx="4554720" cy="992880"/>
            <a:chOff x="2160" y="5638680"/>
            <a:chExt cx="4554720" cy="992880"/>
          </a:xfrm>
        </p:grpSpPr>
        <p:sp>
          <p:nvSpPr>
            <p:cNvPr id="48" name=""/>
            <p:cNvSpPr/>
            <p:nvPr/>
          </p:nvSpPr>
          <p:spPr>
            <a:xfrm>
              <a:off x="1333440" y="5638680"/>
              <a:ext cx="1790640" cy="723960"/>
            </a:xfrm>
            <a:custGeom>
              <a:avLst/>
              <a:gdLst/>
              <a:ahLst/>
              <a:rect l="l" t="t" r="r" b="b"/>
              <a:pathLst>
                <a:path w="1128" h="456">
                  <a:moveTo>
                    <a:pt x="104" y="16"/>
                  </a:moveTo>
                  <a:cubicBezTo>
                    <a:pt x="52" y="80"/>
                    <a:pt x="0" y="144"/>
                    <a:pt x="8" y="208"/>
                  </a:cubicBezTo>
                  <a:cubicBezTo>
                    <a:pt x="16" y="272"/>
                    <a:pt x="0" y="368"/>
                    <a:pt x="152" y="400"/>
                  </a:cubicBezTo>
                  <a:cubicBezTo>
                    <a:pt x="304" y="432"/>
                    <a:pt x="776" y="456"/>
                    <a:pt x="920" y="400"/>
                  </a:cubicBezTo>
                  <a:cubicBezTo>
                    <a:pt x="1064" y="344"/>
                    <a:pt x="1128" y="128"/>
                    <a:pt x="1016" y="64"/>
                  </a:cubicBezTo>
                  <a:cubicBezTo>
                    <a:pt x="904" y="0"/>
                    <a:pt x="576" y="8"/>
                    <a:pt x="248" y="1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60" y="6324480"/>
              <a:ext cx="4554720" cy="3070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 ELEMENT IS INACTVE (SHORT-CIRCUITE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362480" y="380880"/>
            <a:ext cx="4781520" cy="4699800"/>
            <a:chOff x="4362480" y="380880"/>
            <a:chExt cx="4781520" cy="4699800"/>
          </a:xfrm>
        </p:grpSpPr>
        <p:sp>
          <p:nvSpPr>
            <p:cNvPr id="54" name=""/>
            <p:cNvSpPr/>
            <p:nvPr/>
          </p:nvSpPr>
          <p:spPr>
            <a:xfrm>
              <a:off x="4721760" y="380880"/>
              <a:ext cx="4021200" cy="520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IN PRACTICE NODES MAY ASSUME ST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362480" y="1407960"/>
              <a:ext cx="4781520" cy="3672720"/>
              <a:chOff x="4362480" y="1407960"/>
              <a:chExt cx="4781520" cy="367272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362480" y="1407960"/>
                <a:ext cx="4781520" cy="3414960"/>
              </a:xfrm>
              <a:prstGeom prst="rect">
                <a:avLst/>
              </a:prstGeom>
              <a:ln w="9360">
                <a:solidFill>
                  <a:srgbClr val="99ccff"/>
                </a:solidFill>
                <a:miter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443480" y="4743360"/>
                <a:ext cx="3911400" cy="33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OW DISTORTION POWER AMPLIF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5164200" y="1827360"/>
            <a:ext cx="799920" cy="576000"/>
          </a:xfrm>
          <a:custGeom>
            <a:avLst/>
            <a:gdLst/>
            <a:ahLst/>
            <a:rect l="l" t="t" r="r" b="b"/>
            <a:pathLst>
              <a:path w="504" h="363">
                <a:moveTo>
                  <a:pt x="480" y="217"/>
                </a:moveTo>
                <a:cubicBezTo>
                  <a:pt x="460" y="110"/>
                  <a:pt x="392" y="32"/>
                  <a:pt x="288" y="0"/>
                </a:cubicBezTo>
                <a:cubicBezTo>
                  <a:pt x="224" y="3"/>
                  <a:pt x="160" y="3"/>
                  <a:pt x="96" y="8"/>
                </a:cubicBezTo>
                <a:cubicBezTo>
                  <a:pt x="69" y="10"/>
                  <a:pt x="38" y="67"/>
                  <a:pt x="38" y="67"/>
                </a:cubicBezTo>
                <a:cubicBezTo>
                  <a:pt x="0" y="187"/>
                  <a:pt x="55" y="329"/>
                  <a:pt x="180" y="359"/>
                </a:cubicBezTo>
                <a:cubicBezTo>
                  <a:pt x="301" y="354"/>
                  <a:pt x="340" y="363"/>
                  <a:pt x="430" y="334"/>
                </a:cubicBezTo>
                <a:cubicBezTo>
                  <a:pt x="442" y="316"/>
                  <a:pt x="504" y="238"/>
                  <a:pt x="480" y="217"/>
                </a:cubicBezTo>
                <a:close/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255920" y="2649600"/>
            <a:ext cx="4934160" cy="2135160"/>
            <a:chOff x="4255920" y="2649600"/>
            <a:chExt cx="4934160" cy="2135160"/>
          </a:xfrm>
        </p:grpSpPr>
        <p:sp>
          <p:nvSpPr>
            <p:cNvPr id="60" name=""/>
            <p:cNvSpPr/>
            <p:nvPr/>
          </p:nvSpPr>
          <p:spPr>
            <a:xfrm>
              <a:off x="4255920" y="2649600"/>
              <a:ext cx="1289160" cy="2135160"/>
            </a:xfrm>
            <a:custGeom>
              <a:avLst/>
              <a:gdLst/>
              <a:ahLst/>
              <a:rect l="l" t="t" r="r" b="b"/>
              <a:pathLst>
                <a:path w="812" h="1345">
                  <a:moveTo>
                    <a:pt x="775" y="318"/>
                  </a:moveTo>
                  <a:cubicBezTo>
                    <a:pt x="781" y="307"/>
                    <a:pt x="789" y="296"/>
                    <a:pt x="792" y="284"/>
                  </a:cubicBezTo>
                  <a:cubicBezTo>
                    <a:pt x="800" y="257"/>
                    <a:pt x="808" y="201"/>
                    <a:pt x="808" y="201"/>
                  </a:cubicBezTo>
                  <a:cubicBezTo>
                    <a:pt x="805" y="172"/>
                    <a:pt x="812" y="124"/>
                    <a:pt x="783" y="101"/>
                  </a:cubicBezTo>
                  <a:cubicBezTo>
                    <a:pt x="765" y="86"/>
                    <a:pt x="730" y="76"/>
                    <a:pt x="708" y="67"/>
                  </a:cubicBezTo>
                  <a:cubicBezTo>
                    <a:pt x="651" y="42"/>
                    <a:pt x="600" y="20"/>
                    <a:pt x="541" y="1"/>
                  </a:cubicBezTo>
                  <a:cubicBezTo>
                    <a:pt x="292" y="7"/>
                    <a:pt x="259" y="0"/>
                    <a:pt x="74" y="59"/>
                  </a:cubicBezTo>
                  <a:cubicBezTo>
                    <a:pt x="36" y="97"/>
                    <a:pt x="40" y="134"/>
                    <a:pt x="24" y="184"/>
                  </a:cubicBezTo>
                  <a:cubicBezTo>
                    <a:pt x="26" y="250"/>
                    <a:pt x="0" y="593"/>
                    <a:pt x="74" y="702"/>
                  </a:cubicBezTo>
                  <a:cubicBezTo>
                    <a:pt x="85" y="768"/>
                    <a:pt x="103" y="846"/>
                    <a:pt x="141" y="902"/>
                  </a:cubicBezTo>
                  <a:cubicBezTo>
                    <a:pt x="148" y="922"/>
                    <a:pt x="160" y="941"/>
                    <a:pt x="166" y="961"/>
                  </a:cubicBezTo>
                  <a:cubicBezTo>
                    <a:pt x="179" y="1006"/>
                    <a:pt x="188" y="1056"/>
                    <a:pt x="199" y="1102"/>
                  </a:cubicBezTo>
                  <a:cubicBezTo>
                    <a:pt x="202" y="1158"/>
                    <a:pt x="202" y="1213"/>
                    <a:pt x="207" y="1269"/>
                  </a:cubicBezTo>
                  <a:cubicBezTo>
                    <a:pt x="209" y="1287"/>
                    <a:pt x="211" y="1307"/>
                    <a:pt x="224" y="1320"/>
                  </a:cubicBezTo>
                  <a:cubicBezTo>
                    <a:pt x="232" y="1328"/>
                    <a:pt x="270" y="1341"/>
                    <a:pt x="282" y="1345"/>
                  </a:cubicBezTo>
                  <a:cubicBezTo>
                    <a:pt x="297" y="1340"/>
                    <a:pt x="323" y="1333"/>
                    <a:pt x="333" y="1320"/>
                  </a:cubicBezTo>
                  <a:cubicBezTo>
                    <a:pt x="378" y="1263"/>
                    <a:pt x="296" y="1323"/>
                    <a:pt x="366" y="1278"/>
                  </a:cubicBezTo>
                  <a:cubicBezTo>
                    <a:pt x="372" y="1245"/>
                    <a:pt x="381" y="1217"/>
                    <a:pt x="391" y="1186"/>
                  </a:cubicBezTo>
                  <a:cubicBezTo>
                    <a:pt x="388" y="1119"/>
                    <a:pt x="394" y="1052"/>
                    <a:pt x="383" y="986"/>
                  </a:cubicBezTo>
                  <a:cubicBezTo>
                    <a:pt x="382" y="980"/>
                    <a:pt x="332" y="913"/>
                    <a:pt x="324" y="902"/>
                  </a:cubicBezTo>
                  <a:cubicBezTo>
                    <a:pt x="293" y="859"/>
                    <a:pt x="278" y="811"/>
                    <a:pt x="266" y="760"/>
                  </a:cubicBezTo>
                  <a:cubicBezTo>
                    <a:pt x="271" y="696"/>
                    <a:pt x="275" y="632"/>
                    <a:pt x="282" y="568"/>
                  </a:cubicBezTo>
                  <a:cubicBezTo>
                    <a:pt x="286" y="537"/>
                    <a:pt x="315" y="478"/>
                    <a:pt x="341" y="460"/>
                  </a:cubicBezTo>
                  <a:cubicBezTo>
                    <a:pt x="355" y="450"/>
                    <a:pt x="397" y="446"/>
                    <a:pt x="408" y="443"/>
                  </a:cubicBezTo>
                  <a:cubicBezTo>
                    <a:pt x="452" y="432"/>
                    <a:pt x="495" y="406"/>
                    <a:pt x="541" y="401"/>
                  </a:cubicBezTo>
                  <a:cubicBezTo>
                    <a:pt x="583" y="397"/>
                    <a:pt x="624" y="396"/>
                    <a:pt x="666" y="393"/>
                  </a:cubicBezTo>
                  <a:cubicBezTo>
                    <a:pt x="730" y="373"/>
                    <a:pt x="734" y="380"/>
                    <a:pt x="775" y="318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34280" y="3962520"/>
              <a:ext cx="955800" cy="384120"/>
            </a:xfrm>
            <a:custGeom>
              <a:avLst/>
              <a:gdLst/>
              <a:ahLst/>
              <a:rect l="l" t="t" r="r" b="b"/>
              <a:pathLst>
                <a:path w="602" h="242">
                  <a:moveTo>
                    <a:pt x="97" y="8"/>
                  </a:moveTo>
                  <a:cubicBezTo>
                    <a:pt x="67" y="28"/>
                    <a:pt x="67" y="46"/>
                    <a:pt x="47" y="75"/>
                  </a:cubicBezTo>
                  <a:cubicBezTo>
                    <a:pt x="0" y="222"/>
                    <a:pt x="127" y="231"/>
                    <a:pt x="231" y="242"/>
                  </a:cubicBezTo>
                  <a:cubicBezTo>
                    <a:pt x="405" y="236"/>
                    <a:pt x="401" y="239"/>
                    <a:pt x="515" y="217"/>
                  </a:cubicBezTo>
                  <a:cubicBezTo>
                    <a:pt x="532" y="206"/>
                    <a:pt x="548" y="195"/>
                    <a:pt x="565" y="184"/>
                  </a:cubicBezTo>
                  <a:cubicBezTo>
                    <a:pt x="582" y="173"/>
                    <a:pt x="598" y="134"/>
                    <a:pt x="598" y="134"/>
                  </a:cubicBezTo>
                  <a:cubicBezTo>
                    <a:pt x="595" y="106"/>
                    <a:pt x="602" y="75"/>
                    <a:pt x="590" y="50"/>
                  </a:cubicBezTo>
                  <a:cubicBezTo>
                    <a:pt x="577" y="23"/>
                    <a:pt x="517" y="9"/>
                    <a:pt x="490" y="0"/>
                  </a:cubicBezTo>
                  <a:cubicBezTo>
                    <a:pt x="442" y="6"/>
                    <a:pt x="416" y="11"/>
                    <a:pt x="373" y="25"/>
                  </a:cubicBezTo>
                  <a:cubicBezTo>
                    <a:pt x="340" y="48"/>
                    <a:pt x="302" y="53"/>
                    <a:pt x="264" y="67"/>
                  </a:cubicBezTo>
                  <a:cubicBezTo>
                    <a:pt x="206" y="64"/>
                    <a:pt x="89" y="58"/>
                    <a:pt x="89" y="5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097600" y="1305000"/>
            <a:ext cx="3450960" cy="2166840"/>
          </a:xfrm>
          <a:custGeom>
            <a:avLst/>
            <a:gdLst/>
            <a:ahLst/>
            <a:rect l="l" t="t" r="r" b="b"/>
            <a:pathLst>
              <a:path w="2174" h="1365">
                <a:moveTo>
                  <a:pt x="11" y="63"/>
                </a:moveTo>
                <a:cubicBezTo>
                  <a:pt x="15" y="97"/>
                  <a:pt x="4" y="139"/>
                  <a:pt x="28" y="163"/>
                </a:cubicBezTo>
                <a:cubicBezTo>
                  <a:pt x="65" y="200"/>
                  <a:pt x="137" y="226"/>
                  <a:pt x="187" y="238"/>
                </a:cubicBezTo>
                <a:cubicBezTo>
                  <a:pt x="454" y="234"/>
                  <a:pt x="674" y="224"/>
                  <a:pt x="930" y="213"/>
                </a:cubicBezTo>
                <a:cubicBezTo>
                  <a:pt x="1223" y="178"/>
                  <a:pt x="1523" y="174"/>
                  <a:pt x="1814" y="221"/>
                </a:cubicBezTo>
                <a:cubicBezTo>
                  <a:pt x="1842" y="231"/>
                  <a:pt x="1870" y="238"/>
                  <a:pt x="1898" y="247"/>
                </a:cubicBezTo>
                <a:cubicBezTo>
                  <a:pt x="1915" y="253"/>
                  <a:pt x="1948" y="263"/>
                  <a:pt x="1948" y="263"/>
                </a:cubicBezTo>
                <a:cubicBezTo>
                  <a:pt x="1956" y="295"/>
                  <a:pt x="1971" y="316"/>
                  <a:pt x="1981" y="347"/>
                </a:cubicBezTo>
                <a:cubicBezTo>
                  <a:pt x="1995" y="497"/>
                  <a:pt x="1982" y="700"/>
                  <a:pt x="2015" y="839"/>
                </a:cubicBezTo>
                <a:cubicBezTo>
                  <a:pt x="2032" y="911"/>
                  <a:pt x="2052" y="983"/>
                  <a:pt x="2065" y="1056"/>
                </a:cubicBezTo>
                <a:cubicBezTo>
                  <a:pt x="2059" y="1109"/>
                  <a:pt x="2060" y="1147"/>
                  <a:pt x="2031" y="1190"/>
                </a:cubicBezTo>
                <a:cubicBezTo>
                  <a:pt x="2017" y="1276"/>
                  <a:pt x="1998" y="1306"/>
                  <a:pt x="2073" y="1365"/>
                </a:cubicBezTo>
                <a:cubicBezTo>
                  <a:pt x="2174" y="1315"/>
                  <a:pt x="2118" y="1151"/>
                  <a:pt x="2132" y="1048"/>
                </a:cubicBezTo>
                <a:cubicBezTo>
                  <a:pt x="2125" y="898"/>
                  <a:pt x="2131" y="889"/>
                  <a:pt x="2107" y="789"/>
                </a:cubicBezTo>
                <a:cubicBezTo>
                  <a:pt x="2112" y="532"/>
                  <a:pt x="2094" y="446"/>
                  <a:pt x="2140" y="255"/>
                </a:cubicBezTo>
                <a:cubicBezTo>
                  <a:pt x="2135" y="186"/>
                  <a:pt x="2139" y="48"/>
                  <a:pt x="2031" y="46"/>
                </a:cubicBezTo>
                <a:cubicBezTo>
                  <a:pt x="1650" y="40"/>
                  <a:pt x="1269" y="41"/>
                  <a:pt x="888" y="38"/>
                </a:cubicBezTo>
                <a:cubicBezTo>
                  <a:pt x="747" y="8"/>
                  <a:pt x="901" y="38"/>
                  <a:pt x="562" y="21"/>
                </a:cubicBezTo>
                <a:cubicBezTo>
                  <a:pt x="509" y="18"/>
                  <a:pt x="457" y="8"/>
                  <a:pt x="404" y="4"/>
                </a:cubicBezTo>
                <a:cubicBezTo>
                  <a:pt x="290" y="7"/>
                  <a:pt x="175" y="0"/>
                  <a:pt x="61" y="13"/>
                </a:cubicBezTo>
                <a:cubicBezTo>
                  <a:pt x="0" y="20"/>
                  <a:pt x="99" y="91"/>
                  <a:pt x="11" y="63"/>
                </a:cubicBezTo>
                <a:close/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49424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457200" y="228600"/>
          <a:ext cx="487692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4876920" cy="2790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685800" y="3048120"/>
            <a:ext cx="4723560" cy="761400"/>
            <a:chOff x="685800" y="3048120"/>
            <a:chExt cx="4723560" cy="76140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685800" y="3048120"/>
                  <a:ext cx="3813120" cy="76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498920" y="3234240"/>
                  <a:ext cx="91044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69" name=""/>
          <p:cNvGraphicFramePr/>
          <p:nvPr/>
        </p:nvGraphicFramePr>
        <p:xfrm>
          <a:off x="5715000" y="3757680"/>
          <a:ext cx="3429000" cy="23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757680"/>
                    <a:ext cx="3429000" cy="23065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38080" y="3962520"/>
                <a:ext cx="259092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3581280" y="1143000"/>
            <a:ext cx="2498040" cy="1752120"/>
            <a:chOff x="3581280" y="1143000"/>
            <a:chExt cx="2498040" cy="1752120"/>
          </a:xfrm>
        </p:grpSpPr>
        <p:sp>
          <p:nvSpPr>
            <p:cNvPr id="273" name=""/>
            <p:cNvSpPr/>
            <p:nvPr/>
          </p:nvSpPr>
          <p:spPr>
            <a:xfrm>
              <a:off x="3581280" y="1512000"/>
              <a:ext cx="2370960" cy="1383120"/>
            </a:xfrm>
            <a:custGeom>
              <a:avLst/>
              <a:gdLst/>
              <a:ahLst/>
              <a:rect l="l" t="t" r="r" b="b"/>
              <a:pathLst>
                <a:path w="1296" h="720">
                  <a:moveTo>
                    <a:pt x="1248" y="576"/>
                  </a:moveTo>
                  <a:lnTo>
                    <a:pt x="1200" y="0"/>
                  </a:lnTo>
                  <a:lnTo>
                    <a:pt x="96" y="0"/>
                  </a:lnTo>
                  <a:lnTo>
                    <a:pt x="0" y="720"/>
                  </a:lnTo>
                  <a:lnTo>
                    <a:pt x="1296" y="720"/>
                  </a:lnTo>
                </a:path>
              </a:pathLst>
            </a:custGeom>
            <a:noFill/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51960" y="1143000"/>
              <a:ext cx="927360" cy="30708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20k||5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8600" y="5410080"/>
            <a:ext cx="3506760" cy="1377000"/>
            <a:chOff x="228600" y="5410080"/>
            <a:chExt cx="3506760" cy="137700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28600" y="5410080"/>
                  <a:ext cx="350676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mr>
                          </m:m>
                        </m:e>
                      </m:d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559080" y="6480000"/>
              <a:ext cx="263448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General current divi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168444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422640" y="49320"/>
            <a:ext cx="2447640" cy="407880"/>
            <a:chOff x="422640" y="49320"/>
            <a:chExt cx="2447640" cy="407880"/>
          </a:xfrm>
        </p:grpSpPr>
        <p:sp>
          <p:nvSpPr>
            <p:cNvPr id="283" name=""/>
            <p:cNvSpPr/>
            <p:nvPr/>
          </p:nvSpPr>
          <p:spPr>
            <a:xfrm>
              <a:off x="422640" y="49320"/>
              <a:ext cx="23450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IND THE CURREN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2514600" y="76320"/>
                  <a:ext cx="355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1143000" y="152280"/>
            <a:ext cx="5665680" cy="1905120"/>
            <a:chOff x="1143000" y="152280"/>
            <a:chExt cx="5665680" cy="1905120"/>
          </a:xfrm>
        </p:grpSpPr>
        <p:sp>
          <p:nvSpPr>
            <p:cNvPr id="286" name=""/>
            <p:cNvSpPr/>
            <p:nvPr/>
          </p:nvSpPr>
          <p:spPr>
            <a:xfrm>
              <a:off x="3460680" y="314280"/>
              <a:ext cx="941400" cy="1743120"/>
            </a:xfrm>
            <a:custGeom>
              <a:avLst/>
              <a:gdLst/>
              <a:ahLst/>
              <a:rect l="l" t="t" r="r" b="b"/>
              <a:pathLst>
                <a:path w="593" h="1098">
                  <a:moveTo>
                    <a:pt x="18" y="39"/>
                  </a:moveTo>
                  <a:cubicBezTo>
                    <a:pt x="19" y="143"/>
                    <a:pt x="0" y="697"/>
                    <a:pt x="49" y="888"/>
                  </a:cubicBezTo>
                  <a:cubicBezTo>
                    <a:pt x="59" y="1036"/>
                    <a:pt x="57" y="966"/>
                    <a:pt x="57" y="1098"/>
                  </a:cubicBezTo>
                  <a:cubicBezTo>
                    <a:pt x="158" y="1096"/>
                    <a:pt x="260" y="1095"/>
                    <a:pt x="361" y="1091"/>
                  </a:cubicBezTo>
                  <a:cubicBezTo>
                    <a:pt x="428" y="1088"/>
                    <a:pt x="385" y="1084"/>
                    <a:pt x="431" y="1075"/>
                  </a:cubicBezTo>
                  <a:cubicBezTo>
                    <a:pt x="449" y="1071"/>
                    <a:pt x="485" y="1067"/>
                    <a:pt x="485" y="1067"/>
                  </a:cubicBezTo>
                  <a:cubicBezTo>
                    <a:pt x="593" y="756"/>
                    <a:pt x="516" y="212"/>
                    <a:pt x="516" y="31"/>
                  </a:cubicBezTo>
                  <a:cubicBezTo>
                    <a:pt x="474" y="19"/>
                    <a:pt x="435" y="8"/>
                    <a:pt x="392" y="0"/>
                  </a:cubicBezTo>
                  <a:cubicBezTo>
                    <a:pt x="337" y="2"/>
                    <a:pt x="283" y="3"/>
                    <a:pt x="228" y="7"/>
                  </a:cubicBezTo>
                  <a:cubicBezTo>
                    <a:pt x="172" y="11"/>
                    <a:pt x="116" y="52"/>
                    <a:pt x="64" y="70"/>
                  </a:cubicBezTo>
                  <a:cubicBezTo>
                    <a:pt x="46" y="76"/>
                    <a:pt x="33" y="49"/>
                    <a:pt x="18" y="39"/>
                  </a:cubicBezTo>
                  <a:close/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7280" y="152280"/>
              <a:ext cx="941400" cy="1743120"/>
            </a:xfrm>
            <a:custGeom>
              <a:avLst/>
              <a:gdLst/>
              <a:ahLst/>
              <a:rect l="l" t="t" r="r" b="b"/>
              <a:pathLst>
                <a:path w="593" h="1098">
                  <a:moveTo>
                    <a:pt x="18" y="39"/>
                  </a:moveTo>
                  <a:cubicBezTo>
                    <a:pt x="19" y="143"/>
                    <a:pt x="0" y="697"/>
                    <a:pt x="49" y="888"/>
                  </a:cubicBezTo>
                  <a:cubicBezTo>
                    <a:pt x="59" y="1036"/>
                    <a:pt x="57" y="966"/>
                    <a:pt x="57" y="1098"/>
                  </a:cubicBezTo>
                  <a:cubicBezTo>
                    <a:pt x="158" y="1096"/>
                    <a:pt x="260" y="1095"/>
                    <a:pt x="361" y="1091"/>
                  </a:cubicBezTo>
                  <a:cubicBezTo>
                    <a:pt x="428" y="1088"/>
                    <a:pt x="385" y="1084"/>
                    <a:pt x="431" y="1075"/>
                  </a:cubicBezTo>
                  <a:cubicBezTo>
                    <a:pt x="449" y="1071"/>
                    <a:pt x="485" y="1067"/>
                    <a:pt x="485" y="1067"/>
                  </a:cubicBezTo>
                  <a:cubicBezTo>
                    <a:pt x="593" y="756"/>
                    <a:pt x="516" y="212"/>
                    <a:pt x="516" y="31"/>
                  </a:cubicBezTo>
                  <a:cubicBezTo>
                    <a:pt x="474" y="19"/>
                    <a:pt x="435" y="8"/>
                    <a:pt x="392" y="0"/>
                  </a:cubicBezTo>
                  <a:cubicBezTo>
                    <a:pt x="337" y="2"/>
                    <a:pt x="283" y="3"/>
                    <a:pt x="228" y="7"/>
                  </a:cubicBezTo>
                  <a:cubicBezTo>
                    <a:pt x="172" y="11"/>
                    <a:pt x="116" y="52"/>
                    <a:pt x="64" y="70"/>
                  </a:cubicBezTo>
                  <a:cubicBezTo>
                    <a:pt x="46" y="76"/>
                    <a:pt x="33" y="49"/>
                    <a:pt x="18" y="39"/>
                  </a:cubicBezTo>
                  <a:close/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43000" y="304920"/>
              <a:ext cx="941400" cy="1743120"/>
            </a:xfrm>
            <a:custGeom>
              <a:avLst/>
              <a:gdLst/>
              <a:ahLst/>
              <a:rect l="l" t="t" r="r" b="b"/>
              <a:pathLst>
                <a:path w="593" h="1098">
                  <a:moveTo>
                    <a:pt x="18" y="39"/>
                  </a:moveTo>
                  <a:cubicBezTo>
                    <a:pt x="19" y="143"/>
                    <a:pt x="0" y="697"/>
                    <a:pt x="49" y="888"/>
                  </a:cubicBezTo>
                  <a:cubicBezTo>
                    <a:pt x="59" y="1036"/>
                    <a:pt x="57" y="966"/>
                    <a:pt x="57" y="1098"/>
                  </a:cubicBezTo>
                  <a:cubicBezTo>
                    <a:pt x="158" y="1096"/>
                    <a:pt x="260" y="1095"/>
                    <a:pt x="361" y="1091"/>
                  </a:cubicBezTo>
                  <a:cubicBezTo>
                    <a:pt x="428" y="1088"/>
                    <a:pt x="385" y="1084"/>
                    <a:pt x="431" y="1075"/>
                  </a:cubicBezTo>
                  <a:cubicBezTo>
                    <a:pt x="449" y="1071"/>
                    <a:pt x="485" y="1067"/>
                    <a:pt x="485" y="1067"/>
                  </a:cubicBezTo>
                  <a:cubicBezTo>
                    <a:pt x="593" y="756"/>
                    <a:pt x="516" y="212"/>
                    <a:pt x="516" y="31"/>
                  </a:cubicBezTo>
                  <a:cubicBezTo>
                    <a:pt x="474" y="19"/>
                    <a:pt x="435" y="8"/>
                    <a:pt x="392" y="0"/>
                  </a:cubicBezTo>
                  <a:cubicBezTo>
                    <a:pt x="337" y="2"/>
                    <a:pt x="283" y="3"/>
                    <a:pt x="228" y="7"/>
                  </a:cubicBezTo>
                  <a:cubicBezTo>
                    <a:pt x="172" y="11"/>
                    <a:pt x="116" y="52"/>
                    <a:pt x="64" y="70"/>
                  </a:cubicBezTo>
                  <a:cubicBezTo>
                    <a:pt x="46" y="76"/>
                    <a:pt x="33" y="49"/>
                    <a:pt x="18" y="39"/>
                  </a:cubicBezTo>
                  <a:close/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9" name=""/>
          <p:cNvGraphicFramePr/>
          <p:nvPr/>
        </p:nvGraphicFramePr>
        <p:xfrm>
          <a:off x="55440" y="3657600"/>
          <a:ext cx="436428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3657600"/>
                    <a:ext cx="4364280" cy="1825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178920" y="220968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BINE THE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97400" y="2057400"/>
            <a:ext cx="19944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BINE RESI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34120" y="2438280"/>
          <a:ext cx="2509560" cy="114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2438280"/>
                    <a:ext cx="2509560" cy="1149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0" y="457200"/>
            <a:ext cx="5450040" cy="2057400"/>
            <a:chOff x="0" y="457200"/>
            <a:chExt cx="5450040" cy="2057400"/>
          </a:xfrm>
        </p:grpSpPr>
        <p:grpSp>
          <p:nvGrpSpPr>
            <p:cNvPr id="296" name=""/>
            <p:cNvGrpSpPr/>
            <p:nvPr/>
          </p:nvGrpSpPr>
          <p:grpSpPr>
            <a:xfrm>
              <a:off x="0" y="457200"/>
              <a:ext cx="5450040" cy="1457280"/>
              <a:chOff x="0" y="457200"/>
              <a:chExt cx="5450040" cy="14572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457200"/>
                <a:ext cx="725760" cy="1447920"/>
              </a:xfrm>
              <a:custGeom>
                <a:avLst/>
                <a:gdLst/>
                <a:ahLst/>
                <a:rect l="l" t="t" r="r" b="b"/>
                <a:pathLst>
                  <a:path w="457" h="912">
                    <a:moveTo>
                      <a:pt x="32" y="8"/>
                    </a:moveTo>
                    <a:cubicBezTo>
                      <a:pt x="9" y="64"/>
                      <a:pt x="6" y="118"/>
                      <a:pt x="0" y="179"/>
                    </a:cubicBezTo>
                    <a:cubicBezTo>
                      <a:pt x="3" y="311"/>
                      <a:pt x="4" y="444"/>
                      <a:pt x="8" y="576"/>
                    </a:cubicBezTo>
                    <a:cubicBezTo>
                      <a:pt x="9" y="607"/>
                      <a:pt x="11" y="639"/>
                      <a:pt x="16" y="670"/>
                    </a:cubicBezTo>
                    <a:cubicBezTo>
                      <a:pt x="19" y="691"/>
                      <a:pt x="32" y="732"/>
                      <a:pt x="32" y="732"/>
                    </a:cubicBezTo>
                    <a:cubicBezTo>
                      <a:pt x="37" y="774"/>
                      <a:pt x="38" y="855"/>
                      <a:pt x="71" y="888"/>
                    </a:cubicBezTo>
                    <a:cubicBezTo>
                      <a:pt x="167" y="891"/>
                      <a:pt x="254" y="869"/>
                      <a:pt x="335" y="912"/>
                    </a:cubicBezTo>
                    <a:cubicBezTo>
                      <a:pt x="372" y="862"/>
                      <a:pt x="393" y="806"/>
                      <a:pt x="413" y="748"/>
                    </a:cubicBezTo>
                    <a:cubicBezTo>
                      <a:pt x="421" y="725"/>
                      <a:pt x="429" y="701"/>
                      <a:pt x="437" y="678"/>
                    </a:cubicBezTo>
                    <a:cubicBezTo>
                      <a:pt x="440" y="670"/>
                      <a:pt x="445" y="654"/>
                      <a:pt x="445" y="654"/>
                    </a:cubicBezTo>
                    <a:cubicBezTo>
                      <a:pt x="457" y="448"/>
                      <a:pt x="445" y="245"/>
                      <a:pt x="445" y="39"/>
                    </a:cubicBezTo>
                    <a:cubicBezTo>
                      <a:pt x="398" y="31"/>
                      <a:pt x="358" y="12"/>
                      <a:pt x="312" y="0"/>
                    </a:cubicBezTo>
                    <a:cubicBezTo>
                      <a:pt x="234" y="3"/>
                      <a:pt x="156" y="3"/>
                      <a:pt x="78" y="8"/>
                    </a:cubicBezTo>
                    <a:cubicBezTo>
                      <a:pt x="27" y="11"/>
                      <a:pt x="83" y="24"/>
                      <a:pt x="32" y="8"/>
                    </a:cubicBezTo>
                    <a:close/>
                  </a:path>
                </a:pathLst>
              </a:custGeom>
              <a:noFill/>
              <a:ln w="255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25960" y="466560"/>
                <a:ext cx="725400" cy="1447920"/>
              </a:xfrm>
              <a:custGeom>
                <a:avLst/>
                <a:gdLst/>
                <a:ahLst/>
                <a:rect l="l" t="t" r="r" b="b"/>
                <a:pathLst>
                  <a:path w="457" h="912">
                    <a:moveTo>
                      <a:pt x="32" y="8"/>
                    </a:moveTo>
                    <a:cubicBezTo>
                      <a:pt x="9" y="64"/>
                      <a:pt x="6" y="118"/>
                      <a:pt x="0" y="179"/>
                    </a:cubicBezTo>
                    <a:cubicBezTo>
                      <a:pt x="3" y="311"/>
                      <a:pt x="4" y="444"/>
                      <a:pt x="8" y="576"/>
                    </a:cubicBezTo>
                    <a:cubicBezTo>
                      <a:pt x="9" y="607"/>
                      <a:pt x="11" y="639"/>
                      <a:pt x="16" y="670"/>
                    </a:cubicBezTo>
                    <a:cubicBezTo>
                      <a:pt x="19" y="691"/>
                      <a:pt x="32" y="732"/>
                      <a:pt x="32" y="732"/>
                    </a:cubicBezTo>
                    <a:cubicBezTo>
                      <a:pt x="37" y="774"/>
                      <a:pt x="38" y="855"/>
                      <a:pt x="71" y="888"/>
                    </a:cubicBezTo>
                    <a:cubicBezTo>
                      <a:pt x="167" y="891"/>
                      <a:pt x="254" y="869"/>
                      <a:pt x="335" y="912"/>
                    </a:cubicBezTo>
                    <a:cubicBezTo>
                      <a:pt x="372" y="862"/>
                      <a:pt x="393" y="806"/>
                      <a:pt x="413" y="748"/>
                    </a:cubicBezTo>
                    <a:cubicBezTo>
                      <a:pt x="421" y="725"/>
                      <a:pt x="429" y="701"/>
                      <a:pt x="437" y="678"/>
                    </a:cubicBezTo>
                    <a:cubicBezTo>
                      <a:pt x="440" y="670"/>
                      <a:pt x="445" y="654"/>
                      <a:pt x="445" y="654"/>
                    </a:cubicBezTo>
                    <a:cubicBezTo>
                      <a:pt x="457" y="448"/>
                      <a:pt x="445" y="245"/>
                      <a:pt x="445" y="39"/>
                    </a:cubicBezTo>
                    <a:cubicBezTo>
                      <a:pt x="398" y="31"/>
                      <a:pt x="358" y="12"/>
                      <a:pt x="312" y="0"/>
                    </a:cubicBezTo>
                    <a:cubicBezTo>
                      <a:pt x="234" y="3"/>
                      <a:pt x="156" y="3"/>
                      <a:pt x="78" y="8"/>
                    </a:cubicBezTo>
                    <a:cubicBezTo>
                      <a:pt x="27" y="11"/>
                      <a:pt x="83" y="24"/>
                      <a:pt x="32" y="8"/>
                    </a:cubicBezTo>
                    <a:close/>
                  </a:path>
                </a:pathLst>
              </a:custGeom>
              <a:noFill/>
              <a:ln w="255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4640" y="466560"/>
                <a:ext cx="725400" cy="1447920"/>
              </a:xfrm>
              <a:custGeom>
                <a:avLst/>
                <a:gdLst/>
                <a:ahLst/>
                <a:rect l="l" t="t" r="r" b="b"/>
                <a:pathLst>
                  <a:path w="457" h="912">
                    <a:moveTo>
                      <a:pt x="32" y="8"/>
                    </a:moveTo>
                    <a:cubicBezTo>
                      <a:pt x="9" y="64"/>
                      <a:pt x="6" y="118"/>
                      <a:pt x="0" y="179"/>
                    </a:cubicBezTo>
                    <a:cubicBezTo>
                      <a:pt x="3" y="311"/>
                      <a:pt x="4" y="444"/>
                      <a:pt x="8" y="576"/>
                    </a:cubicBezTo>
                    <a:cubicBezTo>
                      <a:pt x="9" y="607"/>
                      <a:pt x="11" y="639"/>
                      <a:pt x="16" y="670"/>
                    </a:cubicBezTo>
                    <a:cubicBezTo>
                      <a:pt x="19" y="691"/>
                      <a:pt x="32" y="732"/>
                      <a:pt x="32" y="732"/>
                    </a:cubicBezTo>
                    <a:cubicBezTo>
                      <a:pt x="37" y="774"/>
                      <a:pt x="38" y="855"/>
                      <a:pt x="71" y="888"/>
                    </a:cubicBezTo>
                    <a:cubicBezTo>
                      <a:pt x="167" y="891"/>
                      <a:pt x="254" y="869"/>
                      <a:pt x="335" y="912"/>
                    </a:cubicBezTo>
                    <a:cubicBezTo>
                      <a:pt x="372" y="862"/>
                      <a:pt x="393" y="806"/>
                      <a:pt x="413" y="748"/>
                    </a:cubicBezTo>
                    <a:cubicBezTo>
                      <a:pt x="421" y="725"/>
                      <a:pt x="429" y="701"/>
                      <a:pt x="437" y="678"/>
                    </a:cubicBezTo>
                    <a:cubicBezTo>
                      <a:pt x="440" y="670"/>
                      <a:pt x="445" y="654"/>
                      <a:pt x="445" y="654"/>
                    </a:cubicBezTo>
                    <a:cubicBezTo>
                      <a:pt x="457" y="448"/>
                      <a:pt x="445" y="245"/>
                      <a:pt x="445" y="39"/>
                    </a:cubicBezTo>
                    <a:cubicBezTo>
                      <a:pt x="398" y="31"/>
                      <a:pt x="358" y="12"/>
                      <a:pt x="312" y="0"/>
                    </a:cubicBezTo>
                    <a:cubicBezTo>
                      <a:pt x="234" y="3"/>
                      <a:pt x="156" y="3"/>
                      <a:pt x="78" y="8"/>
                    </a:cubicBezTo>
                    <a:cubicBezTo>
                      <a:pt x="27" y="11"/>
                      <a:pt x="83" y="24"/>
                      <a:pt x="32" y="8"/>
                    </a:cubicBezTo>
                    <a:close/>
                  </a:path>
                </a:pathLst>
              </a:custGeom>
              <a:noFill/>
              <a:ln w="255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97160" y="1828800"/>
              <a:ext cx="4800600" cy="685800"/>
            </a:xfrm>
            <a:custGeom>
              <a:avLst/>
              <a:gdLst/>
              <a:ahLst/>
              <a:rect l="l" t="t" r="r" b="b"/>
              <a:pathLst>
                <a:path w="3024" h="432">
                  <a:moveTo>
                    <a:pt x="0" y="48"/>
                  </a:moveTo>
                  <a:lnTo>
                    <a:pt x="1296" y="144"/>
                  </a:lnTo>
                  <a:lnTo>
                    <a:pt x="1296" y="0"/>
                  </a:lnTo>
                  <a:lnTo>
                    <a:pt x="1296" y="144"/>
                  </a:lnTo>
                  <a:lnTo>
                    <a:pt x="2640" y="336"/>
                  </a:lnTo>
                  <a:lnTo>
                    <a:pt x="2880" y="48"/>
                  </a:lnTo>
                  <a:lnTo>
                    <a:pt x="3024" y="432"/>
                  </a:lnTo>
                </a:path>
              </a:pathLst>
            </a:custGeom>
            <a:noFill/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762800" y="3886200"/>
            <a:ext cx="4234680" cy="1159560"/>
          </a:xfrm>
          <a:prstGeom prst="rect">
            <a:avLst/>
          </a:prstGeom>
          <a:solidFill>
            <a:srgbClr val="ccffcc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TRATEGY: CONVERT THE PROBLEM INTO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IC CURRENT DIVIDER BY COMB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 AND RESIS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EXT SECTION EXPLORES IN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TAIL THE IDEA OF COMBINING RESI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04920" y="5486400"/>
            <a:ext cx="5941080" cy="1195560"/>
            <a:chOff x="304920" y="5486400"/>
            <a:chExt cx="5941080" cy="1195560"/>
          </a:xfrm>
        </p:grpSpPr>
        <p:graphicFrame>
          <p:nvGraphicFramePr>
            <p:cNvPr id="303" name=""/>
            <p:cNvGraphicFramePr/>
            <p:nvPr/>
          </p:nvGraphicFramePr>
          <p:xfrm>
            <a:off x="304920" y="5486400"/>
            <a:ext cx="3462120" cy="1195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62120" cy="11955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3825000" y="586728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TICE THE MINUS SIG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05120" y="1762200"/>
            <a:ext cx="4267080" cy="1743120"/>
            <a:chOff x="1905120" y="1762200"/>
            <a:chExt cx="4267080" cy="1743120"/>
          </a:xfrm>
        </p:grpSpPr>
        <p:grpSp>
          <p:nvGrpSpPr>
            <p:cNvPr id="310" name=""/>
            <p:cNvGrpSpPr/>
            <p:nvPr/>
          </p:nvGrpSpPr>
          <p:grpSpPr>
            <a:xfrm>
              <a:off x="1905120" y="1762200"/>
              <a:ext cx="4267080" cy="1743120"/>
              <a:chOff x="1905120" y="1762200"/>
              <a:chExt cx="4267080" cy="174312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3200" y="1762200"/>
                <a:ext cx="941400" cy="1743120"/>
              </a:xfrm>
              <a:custGeom>
                <a:avLst/>
                <a:gdLst/>
                <a:ahLst/>
                <a:rect l="l" t="t" r="r" b="b"/>
                <a:pathLst>
                  <a:path w="593" h="1098">
                    <a:moveTo>
                      <a:pt x="18" y="39"/>
                    </a:moveTo>
                    <a:cubicBezTo>
                      <a:pt x="19" y="143"/>
                      <a:pt x="0" y="697"/>
                      <a:pt x="49" y="888"/>
                    </a:cubicBezTo>
                    <a:cubicBezTo>
                      <a:pt x="59" y="1036"/>
                      <a:pt x="57" y="966"/>
                      <a:pt x="57" y="1098"/>
                    </a:cubicBezTo>
                    <a:cubicBezTo>
                      <a:pt x="158" y="1096"/>
                      <a:pt x="260" y="1095"/>
                      <a:pt x="361" y="1091"/>
                    </a:cubicBezTo>
                    <a:cubicBezTo>
                      <a:pt x="428" y="1088"/>
                      <a:pt x="385" y="1084"/>
                      <a:pt x="431" y="1075"/>
                    </a:cubicBezTo>
                    <a:cubicBezTo>
                      <a:pt x="449" y="1071"/>
                      <a:pt x="485" y="1067"/>
                      <a:pt x="485" y="1067"/>
                    </a:cubicBezTo>
                    <a:cubicBezTo>
                      <a:pt x="593" y="756"/>
                      <a:pt x="516" y="212"/>
                      <a:pt x="516" y="31"/>
                    </a:cubicBezTo>
                    <a:cubicBezTo>
                      <a:pt x="474" y="19"/>
                      <a:pt x="435" y="8"/>
                      <a:pt x="392" y="0"/>
                    </a:cubicBezTo>
                    <a:cubicBezTo>
                      <a:pt x="337" y="2"/>
                      <a:pt x="283" y="3"/>
                      <a:pt x="228" y="7"/>
                    </a:cubicBezTo>
                    <a:cubicBezTo>
                      <a:pt x="172" y="11"/>
                      <a:pt x="116" y="52"/>
                      <a:pt x="64" y="70"/>
                    </a:cubicBezTo>
                    <a:cubicBezTo>
                      <a:pt x="46" y="76"/>
                      <a:pt x="33" y="49"/>
                      <a:pt x="18" y="3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05120" y="1762200"/>
                <a:ext cx="4267080" cy="596880"/>
              </a:xfrm>
              <a:custGeom>
                <a:avLst/>
                <a:gdLst/>
                <a:ahLst/>
                <a:rect l="l" t="t" r="r" b="b"/>
                <a:pathLst>
                  <a:path w="2688" h="376">
                    <a:moveTo>
                      <a:pt x="0" y="144"/>
                    </a:moveTo>
                    <a:cubicBezTo>
                      <a:pt x="220" y="200"/>
                      <a:pt x="440" y="256"/>
                      <a:pt x="528" y="288"/>
                    </a:cubicBezTo>
                    <a:cubicBezTo>
                      <a:pt x="616" y="320"/>
                      <a:pt x="424" y="376"/>
                      <a:pt x="528" y="336"/>
                    </a:cubicBezTo>
                    <a:cubicBezTo>
                      <a:pt x="632" y="296"/>
                      <a:pt x="1048" y="80"/>
                      <a:pt x="1152" y="48"/>
                    </a:cubicBezTo>
                    <a:cubicBezTo>
                      <a:pt x="1256" y="16"/>
                      <a:pt x="896" y="152"/>
                      <a:pt x="1152" y="144"/>
                    </a:cubicBezTo>
                    <a:cubicBezTo>
                      <a:pt x="1408" y="136"/>
                      <a:pt x="2048" y="68"/>
                      <a:pt x="2688" y="0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895480" y="2209680"/>
              <a:ext cx="533520" cy="1295640"/>
              <a:chOff x="2895480" y="2209680"/>
              <a:chExt cx="533520" cy="1295640"/>
            </a:xfrm>
          </p:grpSpPr>
          <p:sp>
            <p:nvSpPr>
              <p:cNvPr id="314" name=""/>
              <p:cNvSpPr/>
              <p:nvPr/>
            </p:nvSpPr>
            <p:spPr>
              <a:xfrm>
                <a:off x="3124080" y="2209680"/>
                <a:ext cx="0" cy="1067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2514600"/>
                <a:ext cx="457200" cy="38088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" name=""/>
                  <p:cNvSpPr txBox="1"/>
                  <p:nvPr/>
                </p:nvSpPr>
                <p:spPr>
                  <a:xfrm>
                    <a:off x="2971800" y="3276720"/>
                    <a:ext cx="4572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5156280" y="2463840"/>
          <a:ext cx="3429000" cy="31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6280" y="2463840"/>
                    <a:ext cx="34290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80880" y="2286000"/>
          <a:ext cx="4267440" cy="324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86000"/>
                    <a:ext cx="426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7040" y="-9360"/>
          <a:ext cx="4286520" cy="22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040" y="-9360"/>
                    <a:ext cx="4286520" cy="2259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801000" y="15080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76960" y="152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96280" y="1364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686480" y="533520"/>
          <a:ext cx="2286000" cy="12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6480" y="533520"/>
                    <a:ext cx="2286000" cy="1225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600920" y="251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324160" y="304920"/>
            <a:ext cx="608040" cy="739800"/>
          </a:xfrm>
          <a:custGeom>
            <a:avLst/>
            <a:gdLst/>
            <a:ahLst/>
            <a:rect l="l" t="t" r="r" b="b"/>
            <a:pathLst>
              <a:path w="383" h="466">
                <a:moveTo>
                  <a:pt x="383" y="173"/>
                </a:moveTo>
                <a:cubicBezTo>
                  <a:pt x="344" y="142"/>
                  <a:pt x="307" y="108"/>
                  <a:pt x="266" y="80"/>
                </a:cubicBezTo>
                <a:cubicBezTo>
                  <a:pt x="147" y="0"/>
                  <a:pt x="274" y="116"/>
                  <a:pt x="196" y="41"/>
                </a:cubicBezTo>
                <a:cubicBezTo>
                  <a:pt x="139" y="77"/>
                  <a:pt x="64" y="109"/>
                  <a:pt x="33" y="173"/>
                </a:cubicBezTo>
                <a:cubicBezTo>
                  <a:pt x="38" y="322"/>
                  <a:pt x="0" y="397"/>
                  <a:pt x="134" y="438"/>
                </a:cubicBezTo>
                <a:cubicBezTo>
                  <a:pt x="274" y="431"/>
                  <a:pt x="287" y="466"/>
                  <a:pt x="313" y="345"/>
                </a:cubicBezTo>
                <a:cubicBezTo>
                  <a:pt x="316" y="309"/>
                  <a:pt x="311" y="271"/>
                  <a:pt x="321" y="236"/>
                </a:cubicBezTo>
                <a:cubicBezTo>
                  <a:pt x="338" y="177"/>
                  <a:pt x="352" y="234"/>
                  <a:pt x="375" y="205"/>
                </a:cubicBezTo>
                <a:cubicBezTo>
                  <a:pt x="382" y="196"/>
                  <a:pt x="380" y="184"/>
                  <a:pt x="383" y="173"/>
                </a:cubicBezTo>
                <a:close/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63920" y="2971800"/>
            <a:ext cx="803160" cy="2206800"/>
          </a:xfrm>
          <a:custGeom>
            <a:avLst/>
            <a:gdLst/>
            <a:ahLst/>
            <a:rect l="l" t="t" r="r" b="b"/>
            <a:pathLst>
              <a:path w="506" h="1100">
                <a:moveTo>
                  <a:pt x="482" y="30"/>
                </a:moveTo>
                <a:cubicBezTo>
                  <a:pt x="395" y="8"/>
                  <a:pt x="313" y="15"/>
                  <a:pt x="225" y="30"/>
                </a:cubicBezTo>
                <a:cubicBezTo>
                  <a:pt x="178" y="63"/>
                  <a:pt x="165" y="89"/>
                  <a:pt x="108" y="108"/>
                </a:cubicBezTo>
                <a:cubicBezTo>
                  <a:pt x="100" y="129"/>
                  <a:pt x="96" y="151"/>
                  <a:pt x="85" y="170"/>
                </a:cubicBezTo>
                <a:cubicBezTo>
                  <a:pt x="72" y="193"/>
                  <a:pt x="50" y="210"/>
                  <a:pt x="38" y="233"/>
                </a:cubicBezTo>
                <a:cubicBezTo>
                  <a:pt x="20" y="268"/>
                  <a:pt x="22" y="334"/>
                  <a:pt x="15" y="373"/>
                </a:cubicBezTo>
                <a:cubicBezTo>
                  <a:pt x="0" y="615"/>
                  <a:pt x="2" y="514"/>
                  <a:pt x="15" y="903"/>
                </a:cubicBezTo>
                <a:cubicBezTo>
                  <a:pt x="18" y="984"/>
                  <a:pt x="27" y="1039"/>
                  <a:pt x="101" y="1074"/>
                </a:cubicBezTo>
                <a:cubicBezTo>
                  <a:pt x="282" y="1068"/>
                  <a:pt x="332" y="1100"/>
                  <a:pt x="451" y="1012"/>
                </a:cubicBezTo>
                <a:cubicBezTo>
                  <a:pt x="491" y="891"/>
                  <a:pt x="498" y="781"/>
                  <a:pt x="506" y="653"/>
                </a:cubicBezTo>
                <a:cubicBezTo>
                  <a:pt x="501" y="528"/>
                  <a:pt x="498" y="404"/>
                  <a:pt x="490" y="279"/>
                </a:cubicBezTo>
                <a:cubicBezTo>
                  <a:pt x="490" y="271"/>
                  <a:pt x="484" y="264"/>
                  <a:pt x="482" y="256"/>
                </a:cubicBezTo>
                <a:cubicBezTo>
                  <a:pt x="479" y="247"/>
                  <a:pt x="473" y="211"/>
                  <a:pt x="467" y="201"/>
                </a:cubicBezTo>
                <a:cubicBezTo>
                  <a:pt x="457" y="185"/>
                  <a:pt x="387" y="73"/>
                  <a:pt x="350" y="53"/>
                </a:cubicBezTo>
                <a:cubicBezTo>
                  <a:pt x="253" y="0"/>
                  <a:pt x="256" y="57"/>
                  <a:pt x="256" y="14"/>
                </a:cubicBezTo>
                <a:lnTo>
                  <a:pt x="290" y="46"/>
                </a:lnTo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91040" y="2400480"/>
            <a:ext cx="3848040" cy="3466800"/>
          </a:xfrm>
          <a:custGeom>
            <a:avLst/>
            <a:gdLst/>
            <a:ahLst/>
            <a:rect l="l" t="t" r="r" b="b"/>
            <a:pathLst>
              <a:path w="2424" h="2184">
                <a:moveTo>
                  <a:pt x="1880" y="568"/>
                </a:moveTo>
                <a:cubicBezTo>
                  <a:pt x="2096" y="800"/>
                  <a:pt x="1872" y="1688"/>
                  <a:pt x="1880" y="1912"/>
                </a:cubicBezTo>
                <a:cubicBezTo>
                  <a:pt x="1888" y="2136"/>
                  <a:pt x="1888" y="1912"/>
                  <a:pt x="1928" y="1912"/>
                </a:cubicBezTo>
                <a:cubicBezTo>
                  <a:pt x="1968" y="1912"/>
                  <a:pt x="2088" y="2184"/>
                  <a:pt x="2120" y="1912"/>
                </a:cubicBezTo>
                <a:cubicBezTo>
                  <a:pt x="2152" y="1640"/>
                  <a:pt x="2424" y="552"/>
                  <a:pt x="2120" y="280"/>
                </a:cubicBezTo>
                <a:cubicBezTo>
                  <a:pt x="1816" y="8"/>
                  <a:pt x="592" y="0"/>
                  <a:pt x="296" y="280"/>
                </a:cubicBezTo>
                <a:cubicBezTo>
                  <a:pt x="0" y="560"/>
                  <a:pt x="296" y="1920"/>
                  <a:pt x="344" y="1960"/>
                </a:cubicBezTo>
                <a:cubicBezTo>
                  <a:pt x="392" y="2000"/>
                  <a:pt x="328" y="752"/>
                  <a:pt x="584" y="520"/>
                </a:cubicBezTo>
                <a:cubicBezTo>
                  <a:pt x="840" y="288"/>
                  <a:pt x="1664" y="336"/>
                  <a:pt x="1880" y="568"/>
                </a:cubicBez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5960" y="3149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09480" y="52214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9080" y="5756400"/>
            <a:ext cx="402120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IFFERENT LOOKS FOR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LECTRIC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4572000" y="2514600"/>
          <a:ext cx="393228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14600"/>
                    <a:ext cx="39322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609480" y="179280"/>
          <a:ext cx="426744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79280"/>
                    <a:ext cx="4267440" cy="2259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901800" y="822240"/>
            <a:ext cx="249120" cy="346320"/>
          </a:xfrm>
          <a:custGeom>
            <a:avLst/>
            <a:gdLst/>
            <a:ahLst/>
            <a:rect l="l" t="t" r="r" b="b"/>
            <a:pathLst>
              <a:path w="157" h="218">
                <a:moveTo>
                  <a:pt x="157" y="121"/>
                </a:moveTo>
                <a:cubicBezTo>
                  <a:pt x="154" y="90"/>
                  <a:pt x="153" y="59"/>
                  <a:pt x="149" y="28"/>
                </a:cubicBezTo>
                <a:cubicBezTo>
                  <a:pt x="148" y="20"/>
                  <a:pt x="149" y="6"/>
                  <a:pt x="141" y="4"/>
                </a:cubicBezTo>
                <a:cubicBezTo>
                  <a:pt x="126" y="0"/>
                  <a:pt x="110" y="9"/>
                  <a:pt x="94" y="12"/>
                </a:cubicBezTo>
                <a:cubicBezTo>
                  <a:pt x="74" y="26"/>
                  <a:pt x="64" y="31"/>
                  <a:pt x="48" y="51"/>
                </a:cubicBezTo>
                <a:cubicBezTo>
                  <a:pt x="36" y="66"/>
                  <a:pt x="16" y="98"/>
                  <a:pt x="16" y="98"/>
                </a:cubicBezTo>
                <a:cubicBezTo>
                  <a:pt x="3" y="142"/>
                  <a:pt x="0" y="180"/>
                  <a:pt x="40" y="207"/>
                </a:cubicBezTo>
                <a:cubicBezTo>
                  <a:pt x="139" y="198"/>
                  <a:pt x="157" y="218"/>
                  <a:pt x="157" y="121"/>
                </a:cubicBezTo>
                <a:close/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98880" y="2567160"/>
            <a:ext cx="3033720" cy="525240"/>
          </a:xfrm>
          <a:custGeom>
            <a:avLst/>
            <a:gdLst/>
            <a:ahLst/>
            <a:rect l="l" t="t" r="r" b="b"/>
            <a:pathLst>
              <a:path w="1911" h="331">
                <a:moveTo>
                  <a:pt x="1730" y="59"/>
                </a:moveTo>
                <a:cubicBezTo>
                  <a:pt x="1098" y="0"/>
                  <a:pt x="1673" y="51"/>
                  <a:pt x="0" y="51"/>
                </a:cubicBezTo>
                <a:cubicBezTo>
                  <a:pt x="0" y="139"/>
                  <a:pt x="0" y="228"/>
                  <a:pt x="0" y="316"/>
                </a:cubicBezTo>
                <a:cubicBezTo>
                  <a:pt x="634" y="321"/>
                  <a:pt x="1267" y="331"/>
                  <a:pt x="1901" y="331"/>
                </a:cubicBezTo>
                <a:cubicBezTo>
                  <a:pt x="1895" y="238"/>
                  <a:pt x="1911" y="123"/>
                  <a:pt x="1800" y="82"/>
                </a:cubicBezTo>
                <a:cubicBezTo>
                  <a:pt x="1775" y="73"/>
                  <a:pt x="1751" y="77"/>
                  <a:pt x="1730" y="59"/>
                </a:cubicBezTo>
                <a:close/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46440" y="861840"/>
            <a:ext cx="152280" cy="298800"/>
          </a:xfrm>
          <a:custGeom>
            <a:avLst/>
            <a:gdLst/>
            <a:ahLst/>
            <a:rect l="l" t="t" r="r" b="b"/>
            <a:pathLst>
              <a:path w="96" h="188">
                <a:moveTo>
                  <a:pt x="78" y="41"/>
                </a:moveTo>
                <a:cubicBezTo>
                  <a:pt x="46" y="32"/>
                  <a:pt x="30" y="41"/>
                  <a:pt x="16" y="73"/>
                </a:cubicBezTo>
                <a:cubicBezTo>
                  <a:pt x="9" y="88"/>
                  <a:pt x="0" y="119"/>
                  <a:pt x="0" y="119"/>
                </a:cubicBezTo>
                <a:cubicBezTo>
                  <a:pt x="35" y="188"/>
                  <a:pt x="45" y="160"/>
                  <a:pt x="93" y="112"/>
                </a:cubicBezTo>
                <a:cubicBezTo>
                  <a:pt x="91" y="78"/>
                  <a:pt x="96" y="43"/>
                  <a:pt x="86" y="10"/>
                </a:cubicBezTo>
                <a:cubicBezTo>
                  <a:pt x="83" y="0"/>
                  <a:pt x="70" y="34"/>
                  <a:pt x="78" y="41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5638680"/>
            <a:ext cx="3532320" cy="495360"/>
          </a:xfrm>
          <a:custGeom>
            <a:avLst/>
            <a:gdLst/>
            <a:ahLst/>
            <a:rect l="l" t="t" r="r" b="b"/>
            <a:pathLst>
              <a:path w="2225" h="312">
                <a:moveTo>
                  <a:pt x="2127" y="16"/>
                </a:moveTo>
                <a:cubicBezTo>
                  <a:pt x="1984" y="0"/>
                  <a:pt x="1841" y="19"/>
                  <a:pt x="1698" y="31"/>
                </a:cubicBezTo>
                <a:cubicBezTo>
                  <a:pt x="1593" y="68"/>
                  <a:pt x="1482" y="69"/>
                  <a:pt x="1371" y="78"/>
                </a:cubicBezTo>
                <a:cubicBezTo>
                  <a:pt x="921" y="117"/>
                  <a:pt x="467" y="78"/>
                  <a:pt x="15" y="78"/>
                </a:cubicBezTo>
                <a:cubicBezTo>
                  <a:pt x="0" y="168"/>
                  <a:pt x="7" y="109"/>
                  <a:pt x="7" y="257"/>
                </a:cubicBezTo>
                <a:cubicBezTo>
                  <a:pt x="550" y="280"/>
                  <a:pt x="262" y="271"/>
                  <a:pt x="872" y="281"/>
                </a:cubicBezTo>
                <a:cubicBezTo>
                  <a:pt x="1039" y="289"/>
                  <a:pt x="1205" y="295"/>
                  <a:pt x="1371" y="312"/>
                </a:cubicBezTo>
                <a:cubicBezTo>
                  <a:pt x="1644" y="291"/>
                  <a:pt x="1921" y="306"/>
                  <a:pt x="2189" y="249"/>
                </a:cubicBezTo>
                <a:cubicBezTo>
                  <a:pt x="2225" y="241"/>
                  <a:pt x="2196" y="174"/>
                  <a:pt x="2182" y="140"/>
                </a:cubicBezTo>
                <a:cubicBezTo>
                  <a:pt x="2153" y="68"/>
                  <a:pt x="2060" y="83"/>
                  <a:pt x="2127" y="16"/>
                </a:cubicBezTo>
                <a:close/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5840" y="770040"/>
            <a:ext cx="4050000" cy="1766880"/>
          </a:xfrm>
          <a:custGeom>
            <a:avLst/>
            <a:gdLst/>
            <a:ahLst/>
            <a:rect l="l" t="t" r="r" b="b"/>
            <a:pathLst>
              <a:path w="2551" h="1113">
                <a:moveTo>
                  <a:pt x="0" y="832"/>
                </a:moveTo>
                <a:cubicBezTo>
                  <a:pt x="2" y="905"/>
                  <a:pt x="3" y="977"/>
                  <a:pt x="7" y="1050"/>
                </a:cubicBezTo>
                <a:cubicBezTo>
                  <a:pt x="8" y="1058"/>
                  <a:pt x="8" y="1070"/>
                  <a:pt x="15" y="1074"/>
                </a:cubicBezTo>
                <a:cubicBezTo>
                  <a:pt x="29" y="1082"/>
                  <a:pt x="46" y="1079"/>
                  <a:pt x="62" y="1081"/>
                </a:cubicBezTo>
                <a:cubicBezTo>
                  <a:pt x="114" y="1087"/>
                  <a:pt x="166" y="1092"/>
                  <a:pt x="218" y="1097"/>
                </a:cubicBezTo>
                <a:cubicBezTo>
                  <a:pt x="358" y="1111"/>
                  <a:pt x="270" y="1104"/>
                  <a:pt x="483" y="1113"/>
                </a:cubicBezTo>
                <a:cubicBezTo>
                  <a:pt x="922" y="1110"/>
                  <a:pt x="1361" y="1112"/>
                  <a:pt x="1800" y="1105"/>
                </a:cubicBezTo>
                <a:cubicBezTo>
                  <a:pt x="1933" y="1103"/>
                  <a:pt x="2119" y="1083"/>
                  <a:pt x="2252" y="1050"/>
                </a:cubicBezTo>
                <a:cubicBezTo>
                  <a:pt x="2298" y="1039"/>
                  <a:pt x="2348" y="1029"/>
                  <a:pt x="2392" y="1011"/>
                </a:cubicBezTo>
                <a:cubicBezTo>
                  <a:pt x="2415" y="1002"/>
                  <a:pt x="2462" y="988"/>
                  <a:pt x="2462" y="988"/>
                </a:cubicBezTo>
                <a:cubicBezTo>
                  <a:pt x="2489" y="862"/>
                  <a:pt x="2486" y="729"/>
                  <a:pt x="2524" y="606"/>
                </a:cubicBezTo>
                <a:cubicBezTo>
                  <a:pt x="2551" y="417"/>
                  <a:pt x="2524" y="206"/>
                  <a:pt x="2524" y="14"/>
                </a:cubicBezTo>
                <a:cubicBezTo>
                  <a:pt x="2451" y="18"/>
                  <a:pt x="2305" y="0"/>
                  <a:pt x="2244" y="61"/>
                </a:cubicBezTo>
                <a:cubicBezTo>
                  <a:pt x="2236" y="837"/>
                  <a:pt x="2236" y="575"/>
                  <a:pt x="2236" y="848"/>
                </a:cubicBezTo>
                <a:cubicBezTo>
                  <a:pt x="1785" y="859"/>
                  <a:pt x="1341" y="860"/>
                  <a:pt x="888" y="855"/>
                </a:cubicBezTo>
                <a:cubicBezTo>
                  <a:pt x="779" y="850"/>
                  <a:pt x="670" y="845"/>
                  <a:pt x="561" y="840"/>
                </a:cubicBezTo>
                <a:cubicBezTo>
                  <a:pt x="468" y="836"/>
                  <a:pt x="374" y="795"/>
                  <a:pt x="280" y="801"/>
                </a:cubicBezTo>
                <a:cubicBezTo>
                  <a:pt x="186" y="807"/>
                  <a:pt x="93" y="822"/>
                  <a:pt x="0" y="832"/>
                </a:cubicBezTo>
                <a:close/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343400"/>
            <a:ext cx="1387440" cy="420840"/>
          </a:xfrm>
          <a:custGeom>
            <a:avLst/>
            <a:gdLst/>
            <a:ahLst/>
            <a:rect l="l" t="t" r="r" b="b"/>
            <a:pathLst>
              <a:path w="874" h="265">
                <a:moveTo>
                  <a:pt x="175" y="78"/>
                </a:moveTo>
                <a:cubicBezTo>
                  <a:pt x="59" y="60"/>
                  <a:pt x="108" y="62"/>
                  <a:pt x="27" y="62"/>
                </a:cubicBezTo>
                <a:cubicBezTo>
                  <a:pt x="21" y="118"/>
                  <a:pt x="0" y="180"/>
                  <a:pt x="27" y="234"/>
                </a:cubicBezTo>
                <a:cubicBezTo>
                  <a:pt x="298" y="251"/>
                  <a:pt x="566" y="265"/>
                  <a:pt x="838" y="265"/>
                </a:cubicBezTo>
                <a:cubicBezTo>
                  <a:pt x="822" y="43"/>
                  <a:pt x="874" y="99"/>
                  <a:pt x="814" y="39"/>
                </a:cubicBezTo>
                <a:cubicBezTo>
                  <a:pt x="697" y="6"/>
                  <a:pt x="741" y="20"/>
                  <a:pt x="682" y="0"/>
                </a:cubicBezTo>
                <a:cubicBezTo>
                  <a:pt x="505" y="14"/>
                  <a:pt x="330" y="31"/>
                  <a:pt x="152" y="39"/>
                </a:cubicBezTo>
                <a:cubicBezTo>
                  <a:pt x="24" y="54"/>
                  <a:pt x="69" y="54"/>
                  <a:pt x="19" y="54"/>
                </a:cubicBezTo>
                <a:lnTo>
                  <a:pt x="75" y="80"/>
                </a:lnTo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4200" y="395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33000" y="395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20440" y="3214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47800" y="44038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5160" y="3470400"/>
            <a:ext cx="3335400" cy="1191240"/>
          </a:xfrm>
          <a:prstGeom prst="rect">
            <a:avLst/>
          </a:prstGeom>
          <a:solidFill>
            <a:srgbClr val="ccffcc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DRAWING A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AY, SOMETIMES, HELP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ISUALIZE BETTE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LECTRICAL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380880" y="380880"/>
          <a:ext cx="5370480" cy="16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537048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5828400" y="76320"/>
            <a:ext cx="3146400" cy="825480"/>
          </a:xfrm>
          <a:prstGeom prst="rect">
            <a:avLst/>
          </a:prstGeom>
          <a:solidFill>
            <a:srgbClr val="cccc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termin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livered b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57200" y="2514600"/>
                <a:ext cx="358128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943600" y="1295280"/>
                <a:ext cx="2971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p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828800" y="4191120"/>
                <a:ext cx="497376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8629560" y="63435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97640" y="38088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54080" y="227160"/>
            <a:ext cx="5484600" cy="2135160"/>
            <a:chOff x="154080" y="227160"/>
            <a:chExt cx="5484600" cy="2135160"/>
          </a:xfrm>
        </p:grpSpPr>
        <p:sp>
          <p:nvSpPr>
            <p:cNvPr id="367" name=""/>
            <p:cNvSpPr/>
            <p:nvPr/>
          </p:nvSpPr>
          <p:spPr>
            <a:xfrm>
              <a:off x="154080" y="227160"/>
              <a:ext cx="1143000" cy="198432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8800" y="228600"/>
              <a:ext cx="914400" cy="20574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0" y="228600"/>
              <a:ext cx="1066680" cy="213372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054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4120" y="6492960"/>
            <a:ext cx="17809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ONENT S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2600" y="6492960"/>
            <a:ext cx="17809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ION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2280" y="65160"/>
            <a:ext cx="5910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W VOLTAGE POWER SUPPLY FOR CRT - PARTIAL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4267080"/>
            <a:ext cx="761760" cy="1524240"/>
          </a:xfrm>
          <a:custGeom>
            <a:avLst/>
            <a:gdLst/>
            <a:ahLst/>
            <a:rect l="l" t="t" r="r" b="b"/>
            <a:pathLst>
              <a:path w="480" h="960">
                <a:moveTo>
                  <a:pt x="480" y="0"/>
                </a:moveTo>
                <a:lnTo>
                  <a:pt x="240" y="192"/>
                </a:lnTo>
                <a:lnTo>
                  <a:pt x="144" y="288"/>
                </a:lnTo>
                <a:lnTo>
                  <a:pt x="144" y="384"/>
                </a:lnTo>
                <a:lnTo>
                  <a:pt x="96" y="528"/>
                </a:lnTo>
                <a:lnTo>
                  <a:pt x="96" y="672"/>
                </a:lnTo>
                <a:lnTo>
                  <a:pt x="0" y="816"/>
                </a:lnTo>
                <a:lnTo>
                  <a:pt x="0" y="960"/>
                </a:lnTo>
                <a:lnTo>
                  <a:pt x="144" y="864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52578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0"/>
                </a:moveTo>
                <a:lnTo>
                  <a:pt x="144" y="48"/>
                </a:lnTo>
                <a:lnTo>
                  <a:pt x="336" y="192"/>
                </a:lnTo>
                <a:lnTo>
                  <a:pt x="576" y="144"/>
                </a:lnTo>
                <a:lnTo>
                  <a:pt x="576" y="480"/>
                </a:lnTo>
                <a:lnTo>
                  <a:pt x="480" y="480"/>
                </a:lnTo>
                <a:lnTo>
                  <a:pt x="528" y="576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61040" y="4610160"/>
            <a:ext cx="1168560" cy="1384200"/>
          </a:xfrm>
          <a:custGeom>
            <a:avLst/>
            <a:gdLst/>
            <a:ahLst/>
            <a:rect l="l" t="t" r="r" b="b"/>
            <a:pathLst>
              <a:path w="736" h="872">
                <a:moveTo>
                  <a:pt x="496" y="24"/>
                </a:moveTo>
                <a:cubicBezTo>
                  <a:pt x="468" y="12"/>
                  <a:pt x="440" y="0"/>
                  <a:pt x="448" y="24"/>
                </a:cubicBezTo>
                <a:cubicBezTo>
                  <a:pt x="456" y="48"/>
                  <a:pt x="496" y="144"/>
                  <a:pt x="544" y="168"/>
                </a:cubicBezTo>
                <a:cubicBezTo>
                  <a:pt x="592" y="192"/>
                  <a:pt x="736" y="152"/>
                  <a:pt x="736" y="168"/>
                </a:cubicBezTo>
                <a:cubicBezTo>
                  <a:pt x="736" y="184"/>
                  <a:pt x="592" y="224"/>
                  <a:pt x="544" y="264"/>
                </a:cubicBezTo>
                <a:cubicBezTo>
                  <a:pt x="496" y="304"/>
                  <a:pt x="464" y="312"/>
                  <a:pt x="448" y="408"/>
                </a:cubicBezTo>
                <a:cubicBezTo>
                  <a:pt x="432" y="504"/>
                  <a:pt x="512" y="808"/>
                  <a:pt x="448" y="840"/>
                </a:cubicBezTo>
                <a:cubicBezTo>
                  <a:pt x="384" y="872"/>
                  <a:pt x="128" y="696"/>
                  <a:pt x="64" y="600"/>
                </a:cubicBezTo>
                <a:cubicBezTo>
                  <a:pt x="0" y="504"/>
                  <a:pt x="32" y="384"/>
                  <a:pt x="64" y="264"/>
                </a:cubicBez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838080"/>
            <a:ext cx="1981080" cy="121932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lnTo>
                  <a:pt x="144" y="336"/>
                </a:lnTo>
                <a:lnTo>
                  <a:pt x="768" y="336"/>
                </a:lnTo>
                <a:lnTo>
                  <a:pt x="960" y="288"/>
                </a:lnTo>
                <a:lnTo>
                  <a:pt x="1104" y="0"/>
                </a:lnTo>
                <a:lnTo>
                  <a:pt x="1248" y="240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1066680"/>
            <a:ext cx="2438280" cy="99072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96"/>
                </a:moveTo>
                <a:lnTo>
                  <a:pt x="192" y="192"/>
                </a:lnTo>
                <a:lnTo>
                  <a:pt x="432" y="144"/>
                </a:lnTo>
                <a:lnTo>
                  <a:pt x="768" y="144"/>
                </a:lnTo>
                <a:lnTo>
                  <a:pt x="912" y="0"/>
                </a:lnTo>
                <a:lnTo>
                  <a:pt x="720" y="624"/>
                </a:lnTo>
                <a:lnTo>
                  <a:pt x="864" y="144"/>
                </a:lnTo>
                <a:lnTo>
                  <a:pt x="1536" y="240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1371600"/>
            <a:ext cx="381240" cy="1981080"/>
          </a:xfrm>
          <a:custGeom>
            <a:avLst/>
            <a:gdLst/>
            <a:ahLst/>
            <a:rect l="l" t="t" r="r" b="b"/>
            <a:pathLst>
              <a:path w="240" h="1248">
                <a:moveTo>
                  <a:pt x="144" y="0"/>
                </a:moveTo>
                <a:lnTo>
                  <a:pt x="144" y="384"/>
                </a:lnTo>
                <a:lnTo>
                  <a:pt x="240" y="1248"/>
                </a:lnTo>
                <a:lnTo>
                  <a:pt x="192" y="672"/>
                </a:lnTo>
                <a:lnTo>
                  <a:pt x="0" y="720"/>
                </a:lnTo>
                <a:lnTo>
                  <a:pt x="0" y="864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160" y="3673440"/>
            <a:ext cx="24210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PLE PHYSICAL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5840" y="41400"/>
            <a:ext cx="30610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IC CURRENT DI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320" y="380880"/>
          <a:ext cx="4344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344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9040" y="2147760"/>
            <a:ext cx="40212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i(t)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TERS THE NOD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PLITS - IT IS DIVIDED BETWEE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i1(t)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i2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057400" y="507960"/>
            <a:ext cx="1313280" cy="459360"/>
            <a:chOff x="2057400" y="507960"/>
            <a:chExt cx="1313280" cy="459360"/>
          </a:xfrm>
        </p:grpSpPr>
        <p:sp>
          <p:nvSpPr>
            <p:cNvPr id="83" name=""/>
            <p:cNvSpPr/>
            <p:nvPr/>
          </p:nvSpPr>
          <p:spPr>
            <a:xfrm>
              <a:off x="2057400" y="507960"/>
              <a:ext cx="22860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29840" y="660240"/>
              <a:ext cx="114084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" name=""/>
          <p:cNvGraphicFramePr/>
          <p:nvPr/>
        </p:nvGraphicFramePr>
        <p:xfrm>
          <a:off x="1371600" y="2948040"/>
          <a:ext cx="183024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948040"/>
                    <a:ext cx="1830240" cy="480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304920" y="3505320"/>
            <a:ext cx="3124080" cy="1371600"/>
            <a:chOff x="304920" y="3505320"/>
            <a:chExt cx="3124080" cy="1371600"/>
          </a:xfrm>
        </p:grpSpPr>
        <p:sp>
          <p:nvSpPr>
            <p:cNvPr id="88" name=""/>
            <p:cNvSpPr/>
            <p:nvPr/>
          </p:nvSpPr>
          <p:spPr>
            <a:xfrm>
              <a:off x="304920" y="3505320"/>
              <a:ext cx="312408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OHM’S LAW TO REPLACE CURR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1346040" y="3774960"/>
            <a:ext cx="1879920" cy="110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46040" y="3774960"/>
                      <a:ext cx="1879920" cy="1101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91" name=""/>
          <p:cNvGrpSpPr/>
          <p:nvPr/>
        </p:nvGrpSpPr>
        <p:grpSpPr>
          <a:xfrm>
            <a:off x="39960" y="4879800"/>
            <a:ext cx="4447800" cy="1870200"/>
            <a:chOff x="39960" y="4879800"/>
            <a:chExt cx="4447800" cy="1870200"/>
          </a:xfrm>
        </p:grpSpPr>
        <p:sp>
          <p:nvSpPr>
            <p:cNvPr id="92" name=""/>
            <p:cNvSpPr/>
            <p:nvPr/>
          </p:nvSpPr>
          <p:spPr>
            <a:xfrm>
              <a:off x="39960" y="4879800"/>
              <a:ext cx="4447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DEFINE “PARALLEL RESISTANCE COMBINATION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1374840" y="5181480"/>
            <a:ext cx="1600200" cy="156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4840" y="5181480"/>
                      <a:ext cx="1600200" cy="15685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95" name=""/>
          <p:cNvGrpSpPr/>
          <p:nvPr/>
        </p:nvGrpSpPr>
        <p:grpSpPr>
          <a:xfrm>
            <a:off x="4800600" y="320760"/>
            <a:ext cx="3733920" cy="1869840"/>
            <a:chOff x="4800600" y="320760"/>
            <a:chExt cx="3733920" cy="1869840"/>
          </a:xfrm>
        </p:grpSpPr>
        <p:grpSp>
          <p:nvGrpSpPr>
            <p:cNvPr id="96" name=""/>
            <p:cNvGrpSpPr/>
            <p:nvPr/>
          </p:nvGrpSpPr>
          <p:grpSpPr>
            <a:xfrm>
              <a:off x="4800600" y="685800"/>
              <a:ext cx="3733920" cy="1504800"/>
              <a:chOff x="4800600" y="685800"/>
              <a:chExt cx="3733920" cy="1504800"/>
            </a:xfrm>
          </p:grpSpPr>
          <p:graphicFrame>
            <p:nvGraphicFramePr>
              <p:cNvPr id="97" name=""/>
              <p:cNvGraphicFramePr/>
              <p:nvPr/>
            </p:nvGraphicFramePr>
            <p:xfrm>
              <a:off x="6553080" y="685800"/>
              <a:ext cx="1868760" cy="1504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553080" y="685800"/>
                        <a:ext cx="1868760" cy="150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9" name=""/>
              <p:cNvGrpSpPr/>
              <p:nvPr/>
            </p:nvGrpSpPr>
            <p:grpSpPr>
              <a:xfrm>
                <a:off x="4800600" y="762120"/>
                <a:ext cx="3733920" cy="1315800"/>
                <a:chOff x="4800600" y="762120"/>
                <a:chExt cx="3733920" cy="1315800"/>
              </a:xfrm>
            </p:grpSpPr>
            <p:graphicFrame>
              <p:nvGraphicFramePr>
                <p:cNvPr id="100" name=""/>
                <p:cNvGraphicFramePr/>
                <p:nvPr/>
              </p:nvGraphicFramePr>
              <p:xfrm>
                <a:off x="4800600" y="762120"/>
                <a:ext cx="1754280" cy="131580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01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4800600" y="762120"/>
                          <a:ext cx="1754280" cy="131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02" name=""/>
                <p:cNvSpPr/>
                <p:nvPr/>
              </p:nvSpPr>
              <p:spPr>
                <a:xfrm>
                  <a:off x="6553080" y="1447920"/>
                  <a:ext cx="1981440" cy="609480"/>
                </a:xfrm>
                <a:prstGeom prst="rect">
                  <a:avLst/>
                </a:prstGeom>
                <a:noFill/>
                <a:ln w="255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5268960" y="320760"/>
              <a:ext cx="23144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URRENT DIV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" name=""/>
          <p:cNvGraphicFramePr/>
          <p:nvPr/>
        </p:nvGraphicFramePr>
        <p:xfrm>
          <a:off x="4876920" y="2314440"/>
          <a:ext cx="3851280" cy="271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2314440"/>
                    <a:ext cx="385128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02200" y="4933800"/>
                <a:ext cx="1962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908760" y="492768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8" name=""/>
          <p:cNvGraphicFramePr/>
          <p:nvPr/>
        </p:nvGraphicFramePr>
        <p:xfrm>
          <a:off x="2881440" y="5257800"/>
          <a:ext cx="1676160" cy="130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81440" y="5257800"/>
                    <a:ext cx="1676160" cy="13082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19040" y="63360"/>
            <a:ext cx="3432240" cy="2082960"/>
            <a:chOff x="1319040" y="63360"/>
            <a:chExt cx="3432240" cy="2082960"/>
          </a:xfrm>
        </p:grpSpPr>
        <p:sp>
          <p:nvSpPr>
            <p:cNvPr id="114" name=""/>
            <p:cNvSpPr/>
            <p:nvPr/>
          </p:nvSpPr>
          <p:spPr>
            <a:xfrm>
              <a:off x="1319040" y="236520"/>
              <a:ext cx="3432240" cy="1909800"/>
            </a:xfrm>
            <a:custGeom>
              <a:avLst/>
              <a:gdLst/>
              <a:ahLst/>
              <a:rect l="l" t="t" r="r" b="b"/>
              <a:pathLst>
                <a:path w="2162" h="1203">
                  <a:moveTo>
                    <a:pt x="304" y="47"/>
                  </a:moveTo>
                  <a:cubicBezTo>
                    <a:pt x="256" y="72"/>
                    <a:pt x="211" y="103"/>
                    <a:pt x="162" y="126"/>
                  </a:cubicBezTo>
                  <a:cubicBezTo>
                    <a:pt x="146" y="142"/>
                    <a:pt x="131" y="158"/>
                    <a:pt x="115" y="174"/>
                  </a:cubicBezTo>
                  <a:cubicBezTo>
                    <a:pt x="107" y="182"/>
                    <a:pt x="91" y="197"/>
                    <a:pt x="91" y="197"/>
                  </a:cubicBezTo>
                  <a:cubicBezTo>
                    <a:pt x="77" y="245"/>
                    <a:pt x="53" y="291"/>
                    <a:pt x="36" y="339"/>
                  </a:cubicBezTo>
                  <a:cubicBezTo>
                    <a:pt x="30" y="355"/>
                    <a:pt x="20" y="387"/>
                    <a:pt x="20" y="387"/>
                  </a:cubicBezTo>
                  <a:cubicBezTo>
                    <a:pt x="0" y="564"/>
                    <a:pt x="3" y="602"/>
                    <a:pt x="13" y="852"/>
                  </a:cubicBezTo>
                  <a:cubicBezTo>
                    <a:pt x="16" y="943"/>
                    <a:pt x="87" y="1012"/>
                    <a:pt x="155" y="1057"/>
                  </a:cubicBezTo>
                  <a:cubicBezTo>
                    <a:pt x="177" y="1072"/>
                    <a:pt x="197" y="1089"/>
                    <a:pt x="218" y="1105"/>
                  </a:cubicBezTo>
                  <a:cubicBezTo>
                    <a:pt x="233" y="1117"/>
                    <a:pt x="255" y="1114"/>
                    <a:pt x="273" y="1121"/>
                  </a:cubicBezTo>
                  <a:cubicBezTo>
                    <a:pt x="361" y="1158"/>
                    <a:pt x="470" y="1181"/>
                    <a:pt x="565" y="1184"/>
                  </a:cubicBezTo>
                  <a:cubicBezTo>
                    <a:pt x="689" y="1188"/>
                    <a:pt x="812" y="1189"/>
                    <a:pt x="936" y="1192"/>
                  </a:cubicBezTo>
                  <a:cubicBezTo>
                    <a:pt x="1122" y="1189"/>
                    <a:pt x="1330" y="1203"/>
                    <a:pt x="1520" y="1168"/>
                  </a:cubicBezTo>
                  <a:cubicBezTo>
                    <a:pt x="1578" y="1157"/>
                    <a:pt x="1636" y="1136"/>
                    <a:pt x="1693" y="1121"/>
                  </a:cubicBezTo>
                  <a:cubicBezTo>
                    <a:pt x="1714" y="1115"/>
                    <a:pt x="1735" y="1110"/>
                    <a:pt x="1756" y="1105"/>
                  </a:cubicBezTo>
                  <a:cubicBezTo>
                    <a:pt x="1767" y="1102"/>
                    <a:pt x="1788" y="1097"/>
                    <a:pt x="1788" y="1097"/>
                  </a:cubicBezTo>
                  <a:cubicBezTo>
                    <a:pt x="1815" y="1083"/>
                    <a:pt x="1838" y="1067"/>
                    <a:pt x="1867" y="1057"/>
                  </a:cubicBezTo>
                  <a:cubicBezTo>
                    <a:pt x="1897" y="1034"/>
                    <a:pt x="1931" y="1017"/>
                    <a:pt x="1961" y="994"/>
                  </a:cubicBezTo>
                  <a:cubicBezTo>
                    <a:pt x="2011" y="956"/>
                    <a:pt x="1977" y="975"/>
                    <a:pt x="2009" y="939"/>
                  </a:cubicBezTo>
                  <a:cubicBezTo>
                    <a:pt x="2065" y="875"/>
                    <a:pt x="2106" y="810"/>
                    <a:pt x="2127" y="726"/>
                  </a:cubicBezTo>
                  <a:cubicBezTo>
                    <a:pt x="2141" y="598"/>
                    <a:pt x="2162" y="413"/>
                    <a:pt x="2096" y="292"/>
                  </a:cubicBezTo>
                  <a:cubicBezTo>
                    <a:pt x="2011" y="138"/>
                    <a:pt x="1821" y="34"/>
                    <a:pt x="1654" y="0"/>
                  </a:cubicBezTo>
                  <a:cubicBezTo>
                    <a:pt x="1447" y="4"/>
                    <a:pt x="1273" y="0"/>
                    <a:pt x="1078" y="40"/>
                  </a:cubicBezTo>
                  <a:cubicBezTo>
                    <a:pt x="887" y="13"/>
                    <a:pt x="693" y="28"/>
                    <a:pt x="502" y="47"/>
                  </a:cubicBezTo>
                  <a:cubicBezTo>
                    <a:pt x="445" y="58"/>
                    <a:pt x="476" y="50"/>
                    <a:pt x="415" y="71"/>
                  </a:cubicBezTo>
                  <a:cubicBezTo>
                    <a:pt x="407" y="74"/>
                    <a:pt x="391" y="79"/>
                    <a:pt x="391" y="79"/>
                  </a:cubicBezTo>
                  <a:cubicBezTo>
                    <a:pt x="383" y="84"/>
                    <a:pt x="368" y="95"/>
                    <a:pt x="368" y="9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4178160" y="63360"/>
            <a:ext cx="333360" cy="3812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19">
                      <a:alphaModFix amt="50000"/>
                    </a:blip>
                    <a:stretch/>
                  </p:blipFill>
                  <p:spPr>
                    <a:xfrm>
                      <a:off x="4178160" y="63360"/>
                      <a:ext cx="33336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7" name=""/>
          <p:cNvSpPr/>
          <p:nvPr/>
        </p:nvSpPr>
        <p:spPr>
          <a:xfrm flipV="1">
            <a:off x="455760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828800" y="76320"/>
          <a:ext cx="5257800" cy="22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6320"/>
                    <a:ext cx="5257800" cy="2253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3520" y="152280"/>
                <a:ext cx="20034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73520" y="236232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IN DOUBT… REDRAW THE CIRCUI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IGHLIGHT ELECTRICAL CONNECTIONS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2971800"/>
          <a:ext cx="4950000" cy="33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71800"/>
                    <a:ext cx="495000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572000" y="2438280"/>
          <a:ext cx="3962520" cy="10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438280"/>
                    <a:ext cx="3962520" cy="109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572000" y="3581280"/>
          <a:ext cx="4419720" cy="126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581280"/>
                    <a:ext cx="4419720" cy="126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5054760" y="5321160"/>
            <a:ext cx="927000" cy="493920"/>
            <a:chOff x="5054760" y="5321160"/>
            <a:chExt cx="927000" cy="49392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054760" y="5321160"/>
                  <a:ext cx="927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0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295960" y="5586480"/>
                  <a:ext cx="442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1073160" y="4952880"/>
            <a:ext cx="136512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EAS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SE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41068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466236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4560" y="3581280"/>
            <a:ext cx="6137280" cy="2748240"/>
            <a:chOff x="34560" y="3581280"/>
            <a:chExt cx="6137280" cy="2748240"/>
          </a:xfrm>
        </p:grpSpPr>
        <p:graphicFrame>
          <p:nvGraphicFramePr>
            <p:cNvPr id="136" name=""/>
            <p:cNvGraphicFramePr/>
            <p:nvPr/>
          </p:nvGraphicFramePr>
          <p:xfrm>
            <a:off x="252360" y="4648320"/>
            <a:ext cx="4471560" cy="1681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2360" y="4648320"/>
                      <a:ext cx="447156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193680" y="4070520"/>
            <a:ext cx="5978160" cy="52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680" y="4070520"/>
                      <a:ext cx="5978160" cy="5252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34560" y="3581280"/>
              <a:ext cx="51184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LEARNING EXTENSION - CURRENT DIV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28600" y="457200"/>
            <a:ext cx="6781680" cy="1754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19960" y="254160"/>
            <a:ext cx="402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AR STEREO AND CIRCUI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00600" y="990720"/>
            <a:ext cx="647640" cy="582480"/>
            <a:chOff x="4800600" y="990720"/>
            <a:chExt cx="647640" cy="582480"/>
          </a:xfrm>
        </p:grpSpPr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800600" y="1371600"/>
                  <a:ext cx="64764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1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"/>
            <p:cNvSpPr/>
            <p:nvPr/>
          </p:nvSpPr>
          <p:spPr>
            <a:xfrm>
              <a:off x="5410080" y="990720"/>
              <a:ext cx="0" cy="4572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91320" y="1093680"/>
            <a:ext cx="647640" cy="582480"/>
            <a:chOff x="5791320" y="1093680"/>
            <a:chExt cx="647640" cy="582480"/>
          </a:xfrm>
        </p:grpSpPr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791320" y="1474560"/>
                  <a:ext cx="64764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1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" name=""/>
            <p:cNvSpPr/>
            <p:nvPr/>
          </p:nvSpPr>
          <p:spPr>
            <a:xfrm>
              <a:off x="6400800" y="1093680"/>
              <a:ext cx="0" cy="4572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1371600" y="1978200"/>
          <a:ext cx="2743200" cy="145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1978200"/>
                    <a:ext cx="2743200" cy="1450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1" name=""/>
          <p:cNvGrpSpPr/>
          <p:nvPr/>
        </p:nvGrpSpPr>
        <p:grpSpPr>
          <a:xfrm>
            <a:off x="4970160" y="2300400"/>
            <a:ext cx="3183120" cy="480960"/>
            <a:chOff x="4970160" y="2300400"/>
            <a:chExt cx="3183120" cy="480960"/>
          </a:xfrm>
        </p:grpSpPr>
        <p:sp>
          <p:nvSpPr>
            <p:cNvPr id="152" name=""/>
            <p:cNvSpPr/>
            <p:nvPr/>
          </p:nvSpPr>
          <p:spPr>
            <a:xfrm>
              <a:off x="4970160" y="2438280"/>
              <a:ext cx="1994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POWER PER SPEAK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6993000" y="2300400"/>
            <a:ext cx="1160280" cy="480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993000" y="2300400"/>
                      <a:ext cx="1160280" cy="480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6248520"/>
                <a:ext cx="1600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" name=""/>
          <p:cNvGrpSpPr/>
          <p:nvPr/>
        </p:nvGrpSpPr>
        <p:grpSpPr>
          <a:xfrm>
            <a:off x="3657600" y="4724280"/>
            <a:ext cx="2057400" cy="439560"/>
            <a:chOff x="3657600" y="4724280"/>
            <a:chExt cx="2057400" cy="439560"/>
          </a:xfrm>
        </p:grpSpPr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3733920" y="4876560"/>
                  <a:ext cx="19810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:  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3657600" y="4724280"/>
              <a:ext cx="228600" cy="2286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28800" y="6410160"/>
                <a:ext cx="99072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4572000" y="5562720"/>
            <a:ext cx="4348080" cy="942840"/>
            <a:chOff x="4572000" y="5562720"/>
            <a:chExt cx="4348080" cy="94284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572000" y="5562720"/>
                  <a:ext cx="396396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OWER:  </m:t>
                          </m:r>
                          <m:sSup>
                            <m:e>
                              <m:r>
                                <m:t xml:space="preserve">I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R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SISTANCE IN k</m:t>
                          </m:r>
                          <m:r>
                            <m:t xml:space="preserve">Ω</m:t>
                          </m:r>
                          <m:r>
                            <m:rPr>
                              <m:lit/>
                              <m:nor/>
                            </m:rPr>
                            <m:t xml:space="preserve">,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URRENT IN mA YIELD POWER IN  m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748200" y="5867280"/>
                  <a:ext cx="2171880" cy="21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4</m:t>
                      </m:r>
                      <m:r>
                        <m:t xml:space="preserve">∗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rPr>
                          <m:lit/>
                          <m:nor/>
                        </m:rPr>
                        <m:t xml:space="preserve">mW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6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770440" y="4638600"/>
                <a:ext cx="2916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 CURRENT  DIVIDER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833292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9480" y="3521160"/>
            <a:ext cx="263448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RE IS MORE THAN 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PTION TO COMPUTE I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8720" y="2556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IRST GENERALIZATION: MULTIPL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0720" y="495360"/>
          <a:ext cx="777240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95360"/>
                    <a:ext cx="777240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520" y="2286000"/>
          <a:ext cx="45831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4583160" cy="520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1600200" y="355680"/>
            <a:ext cx="6453000" cy="482040"/>
            <a:chOff x="1600200" y="355680"/>
            <a:chExt cx="6453000" cy="482040"/>
          </a:xfrm>
        </p:grpSpPr>
        <p:sp>
          <p:nvSpPr>
            <p:cNvPr id="174" name=""/>
            <p:cNvSpPr/>
            <p:nvPr/>
          </p:nvSpPr>
          <p:spPr>
            <a:xfrm>
              <a:off x="1600200" y="747360"/>
              <a:ext cx="6421320" cy="9036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25640" y="355680"/>
              <a:ext cx="25275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CL TO THIS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2666880"/>
            <a:ext cx="4114800" cy="0"/>
            <a:chOff x="609480" y="2666880"/>
            <a:chExt cx="4114800" cy="0"/>
          </a:xfrm>
        </p:grpSpPr>
        <p:sp>
          <p:nvSpPr>
            <p:cNvPr id="177" name=""/>
            <p:cNvSpPr/>
            <p:nvPr/>
          </p:nvSpPr>
          <p:spPr>
            <a:xfrm>
              <a:off x="609480" y="2666880"/>
              <a:ext cx="53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81080" y="2666880"/>
              <a:ext cx="53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9160" y="2666880"/>
              <a:ext cx="4572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0760" y="2666880"/>
              <a:ext cx="53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0" y="2971800"/>
            <a:ext cx="5691240" cy="2014560"/>
            <a:chOff x="0" y="2971800"/>
            <a:chExt cx="5691240" cy="201456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0" y="3079800"/>
                  <a:ext cx="25876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QUIVALENT SOURCE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3" name=""/>
            <p:cNvGraphicFramePr/>
            <p:nvPr/>
          </p:nvGraphicFramePr>
          <p:xfrm>
            <a:off x="149400" y="3341880"/>
            <a:ext cx="4038480" cy="1644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9400" y="3341880"/>
                      <a:ext cx="4038480" cy="16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2587680" y="2971800"/>
            <a:ext cx="3103560" cy="41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87680" y="2971800"/>
                      <a:ext cx="3103560" cy="4143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87" name=""/>
          <p:cNvGrpSpPr/>
          <p:nvPr/>
        </p:nvGrpSpPr>
        <p:grpSpPr>
          <a:xfrm>
            <a:off x="4307040" y="3809880"/>
            <a:ext cx="4836600" cy="2021760"/>
            <a:chOff x="4307040" y="3809880"/>
            <a:chExt cx="4836600" cy="202176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406640" y="4383000"/>
                  <a:ext cx="173700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89" name=""/>
            <p:cNvGrpSpPr/>
            <p:nvPr/>
          </p:nvGrpSpPr>
          <p:grpSpPr>
            <a:xfrm>
              <a:off x="4307040" y="3809880"/>
              <a:ext cx="4447800" cy="2021760"/>
              <a:chOff x="4307040" y="3809880"/>
              <a:chExt cx="4447800" cy="2021760"/>
            </a:xfrm>
          </p:grpSpPr>
          <p:sp>
            <p:nvSpPr>
              <p:cNvPr id="190" name=""/>
              <p:cNvSpPr/>
              <p:nvPr/>
            </p:nvSpPr>
            <p:spPr>
              <a:xfrm>
                <a:off x="4307040" y="3809880"/>
                <a:ext cx="4447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DEFINE “PARALLEL RESISTANCE COMBINATION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1" name=""/>
              <p:cNvGraphicFramePr/>
              <p:nvPr/>
            </p:nvGraphicFramePr>
            <p:xfrm>
              <a:off x="5719320" y="4136040"/>
              <a:ext cx="1690200" cy="1695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9320" y="4136040"/>
                        <a:ext cx="1690200" cy="169560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685800" y="176040"/>
          <a:ext cx="5943600" cy="31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6040"/>
                    <a:ext cx="5943600" cy="3127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143000" y="3809880"/>
          <a:ext cx="3200400" cy="236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320040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257800" y="3886200"/>
                <a:ext cx="2362320" cy="22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52280" y="536400"/>
          <a:ext cx="776628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6400"/>
                    <a:ext cx="776628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990720" y="457200"/>
            <a:ext cx="6348600" cy="406440"/>
            <a:chOff x="990720" y="457200"/>
            <a:chExt cx="6348600" cy="406440"/>
          </a:xfrm>
        </p:grpSpPr>
        <p:sp>
          <p:nvSpPr>
            <p:cNvPr id="207" name=""/>
            <p:cNvSpPr/>
            <p:nvPr/>
          </p:nvSpPr>
          <p:spPr>
            <a:xfrm>
              <a:off x="990720" y="787320"/>
              <a:ext cx="6248520" cy="7632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1760" y="457200"/>
              <a:ext cx="25275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CL TO THIS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380880" y="4876920"/>
          <a:ext cx="20592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876920"/>
                    <a:ext cx="2059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438280" y="4876920"/>
          <a:ext cx="1979640" cy="10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979640" cy="10922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64080" y="25560"/>
            <a:ext cx="58042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COND GENERALIZATION: MULTIPLE RE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952880" y="4952880"/>
            <a:ext cx="3506760" cy="1377000"/>
            <a:chOff x="4952880" y="4952880"/>
            <a:chExt cx="3506760" cy="1377000"/>
          </a:xfrm>
        </p:grpSpPr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4952880" y="4952880"/>
                  <a:ext cx="350676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mr>
                          </m:m>
                        </m:e>
                      </m:d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5283360" y="6022800"/>
              <a:ext cx="263448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General current divi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990720" y="2898720"/>
            <a:ext cx="7864560" cy="1428840"/>
            <a:chOff x="990720" y="2898720"/>
            <a:chExt cx="7864560" cy="1428840"/>
          </a:xfrm>
        </p:grpSpPr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990720" y="2898720"/>
              <a:ext cx="4724280" cy="142884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sp>
          <p:nvSpPr>
            <p:cNvPr id="222" name=""/>
            <p:cNvSpPr/>
            <p:nvPr/>
          </p:nvSpPr>
          <p:spPr>
            <a:xfrm>
              <a:off x="5794200" y="3825720"/>
              <a:ext cx="30610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hm’s Law at every resis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-76320" y="0"/>
          <a:ext cx="929664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0"/>
                    <a:ext cx="929664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-76320" y="3591000"/>
          <a:ext cx="678204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591000"/>
                    <a:ext cx="67820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0" y="1297080"/>
            <a:ext cx="1773360" cy="3732120"/>
            <a:chOff x="0" y="1297080"/>
            <a:chExt cx="1773360" cy="3732120"/>
          </a:xfrm>
        </p:grpSpPr>
        <p:sp>
          <p:nvSpPr>
            <p:cNvPr id="228" name=""/>
            <p:cNvSpPr/>
            <p:nvPr/>
          </p:nvSpPr>
          <p:spPr>
            <a:xfrm>
              <a:off x="0" y="1297080"/>
              <a:ext cx="7588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9" name=""/>
            <p:cNvGraphicFramePr/>
            <p:nvPr/>
          </p:nvGraphicFramePr>
          <p:xfrm>
            <a:off x="1222200" y="3886200"/>
            <a:ext cx="55116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22200" y="3886200"/>
                      <a:ext cx="5511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"/>
          <p:cNvGrpSpPr/>
          <p:nvPr/>
        </p:nvGrpSpPr>
        <p:grpSpPr>
          <a:xfrm>
            <a:off x="0" y="2286000"/>
            <a:ext cx="8813880" cy="2793960"/>
            <a:chOff x="0" y="2286000"/>
            <a:chExt cx="8813880" cy="2793960"/>
          </a:xfrm>
        </p:grpSpPr>
        <p:grpSp>
          <p:nvGrpSpPr>
            <p:cNvPr id="232" name=""/>
            <p:cNvGrpSpPr/>
            <p:nvPr/>
          </p:nvGrpSpPr>
          <p:grpSpPr>
            <a:xfrm>
              <a:off x="0" y="2286000"/>
              <a:ext cx="5715000" cy="2793960"/>
              <a:chOff x="0" y="2286000"/>
              <a:chExt cx="5715000" cy="279396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209680" y="3962520"/>
                <a:ext cx="444600" cy="1117440"/>
                <a:chOff x="2209680" y="3962520"/>
                <a:chExt cx="444600" cy="11174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209680" y="3962520"/>
                  <a:ext cx="0" cy="76176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35" name=""/>
                <p:cNvGraphicFramePr/>
                <p:nvPr/>
              </p:nvGraphicFramePr>
              <p:xfrm>
                <a:off x="2209680" y="4572000"/>
                <a:ext cx="444600" cy="5079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36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209680" y="4572000"/>
                          <a:ext cx="444600" cy="507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37" name=""/>
              <p:cNvSpPr/>
              <p:nvPr/>
            </p:nvSpPr>
            <p:spPr>
              <a:xfrm>
                <a:off x="0" y="228600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05320" y="3962520"/>
                <a:ext cx="0" cy="9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39" name=""/>
              <p:cNvGraphicFramePr/>
              <p:nvPr/>
            </p:nvGraphicFramePr>
            <p:xfrm>
              <a:off x="3581280" y="4572000"/>
              <a:ext cx="444600" cy="507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581280" y="4572000"/>
                        <a:ext cx="44460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"/>
              <p:cNvSpPr/>
              <p:nvPr/>
            </p:nvSpPr>
            <p:spPr>
              <a:xfrm>
                <a:off x="5715000" y="3962520"/>
                <a:ext cx="0" cy="9144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2" name=""/>
              <p:cNvGraphicFramePr/>
              <p:nvPr/>
            </p:nvGraphicFramePr>
            <p:xfrm>
              <a:off x="5105520" y="4572000"/>
              <a:ext cx="533160" cy="5079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4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105520" y="4572000"/>
                        <a:ext cx="5331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44" name=""/>
            <p:cNvSpPr/>
            <p:nvPr/>
          </p:nvSpPr>
          <p:spPr>
            <a:xfrm>
              <a:off x="6464520" y="3618000"/>
              <a:ext cx="2349360" cy="642600"/>
            </a:xfrm>
            <a:prstGeom prst="rect">
              <a:avLst/>
            </a:prstGeom>
            <a:solidFill>
              <a:srgbClr val="ade4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ice use of pass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gn conven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0" y="2743200"/>
            <a:ext cx="6858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5334120"/>
          <a:ext cx="374652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5334120"/>
                    <a:ext cx="3746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8" name=""/>
          <p:cNvGrpSpPr/>
          <p:nvPr/>
        </p:nvGrpSpPr>
        <p:grpSpPr>
          <a:xfrm>
            <a:off x="0" y="3048120"/>
            <a:ext cx="5423040" cy="3733560"/>
            <a:chOff x="0" y="3048120"/>
            <a:chExt cx="5423040" cy="3733560"/>
          </a:xfrm>
        </p:grpSpPr>
        <p:sp>
          <p:nvSpPr>
            <p:cNvPr id="249" name=""/>
            <p:cNvSpPr/>
            <p:nvPr/>
          </p:nvSpPr>
          <p:spPr>
            <a:xfrm>
              <a:off x="0" y="3048120"/>
              <a:ext cx="685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495320" y="5257800"/>
              <a:ext cx="381240" cy="6858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4800600" y="5562720"/>
            <a:ext cx="622440" cy="203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00600" y="5562720"/>
                      <a:ext cx="62244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1295280" y="5791320"/>
              <a:ext cx="4572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8120" y="5715000"/>
              <a:ext cx="3808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1143000" y="5905440"/>
            <a:ext cx="2514600" cy="876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143000" y="5905440"/>
                      <a:ext cx="25146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7" name=""/>
          <p:cNvGrpSpPr/>
          <p:nvPr/>
        </p:nvGrpSpPr>
        <p:grpSpPr>
          <a:xfrm>
            <a:off x="5943600" y="4495680"/>
            <a:ext cx="3200400" cy="1683000"/>
            <a:chOff x="5943600" y="4495680"/>
            <a:chExt cx="3200400" cy="1683000"/>
          </a:xfrm>
        </p:grpSpPr>
        <p:sp>
          <p:nvSpPr>
            <p:cNvPr id="258" name=""/>
            <p:cNvSpPr/>
            <p:nvPr/>
          </p:nvSpPr>
          <p:spPr>
            <a:xfrm>
              <a:off x="6728760" y="4495680"/>
              <a:ext cx="2398320" cy="916920"/>
            </a:xfrm>
            <a:prstGeom prst="rect">
              <a:avLst/>
            </a:prstGeom>
            <a:solidFill>
              <a:srgbClr val="ade4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c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(t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kn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 other variables 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 determined; 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5943600" y="5562720"/>
            <a:ext cx="3200400" cy="61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43600" y="5562720"/>
                      <a:ext cx="320040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1" name="" descr=""/>
          <p:cNvPicPr/>
          <p:nvPr/>
        </p:nvPicPr>
        <p:blipFill>
          <a:blip r:embed="rId21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02:10:43Z</dcterms:created>
  <dc:creator>Jorge Aravena</dc:creator>
  <dc:description/>
  <dc:language>en-US</dc:language>
  <cp:lastModifiedBy>Jorge Aravena</cp:lastModifiedBy>
  <dcterms:modified xsi:type="dcterms:W3CDTF">2004-07-24T15:51:54Z</dcterms:modified>
  <cp:revision>2</cp:revision>
  <dc:subject/>
  <dc:title>Slide 1</dc:title>
</cp:coreProperties>
</file>